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D3E3-016F-4781-8D9C-EB69CA7F9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1831-DCE5-4FBD-B794-97865A512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DED9-BF8D-4028-9EC2-D2010000E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F2FA-A79C-4FF3-BD66-A41331253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A06F-1182-444B-B759-28880F1B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0219-909A-4B25-B352-3BA7C0D4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5A6B-4BD4-4E36-A0DE-351FA7913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FFF0-0F97-4487-B453-03832409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29D0-B5B4-4DF6-BC4A-F1BBAED7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2ADE-3B7E-4023-AE5E-A5EDD6D7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ED6B-D4D2-4626-8002-F30E974A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3056-6D28-4BCE-AA2A-0BC05439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0A09E-5CEA-413A-ABF9-B1B1608608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" y="0"/>
            <a:ext cx="8153280" cy="58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abic Transparent"/>
              </a:rPr>
              <a:t>جداول الضرب</a:t>
            </a:r>
            <a:endParaRPr b="1" i="1" lang="en-US" sz="4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" y="533520"/>
            <a:ext cx="236232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م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إلى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600200" y="685800"/>
            <a:ext cx="2743200" cy="488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*1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*2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*3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*4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*5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*6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*7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*8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*9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*10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724280" y="5335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724280" y="10666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724280" y="16002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724280" y="21337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724280" y="26668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724280" y="32004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724280" y="37339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724280" y="42670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724280" y="47242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48320" y="5257800"/>
            <a:ext cx="3427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400800" y="1295280"/>
            <a:ext cx="198108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mb dir="horz"/>
  </p:transition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990720" y="0"/>
            <a:ext cx="7162560" cy="541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لنهاية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410080" y="5638680"/>
            <a:ext cx="315288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إعداد:طارق المنش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cover dir="d"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0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07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0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066680" y="380880"/>
            <a:ext cx="1828800" cy="601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*1=</a:t>
            </a: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*2=</a:t>
            </a: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*3=</a:t>
            </a: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*4=</a:t>
            </a: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*5=</a:t>
            </a: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*6=</a:t>
            </a: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*7=</a:t>
            </a: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*8=</a:t>
            </a: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*9=</a:t>
            </a: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*10=</a:t>
            </a:r>
            <a:endParaRPr b="1" i="1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200400" y="457200"/>
            <a:ext cx="1144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00400" y="990720"/>
            <a:ext cx="1144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00400" y="1600200"/>
            <a:ext cx="1144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200400" y="2209680"/>
            <a:ext cx="11448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124080" y="28195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3124080" y="35053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124080" y="41911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124080" y="48769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124080" y="54864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124080" y="60958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400800" y="990720"/>
            <a:ext cx="152388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</a:t>
            </a:r>
            <a:endParaRPr b="0" lang="en-US" sz="32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dissolv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295280" y="304920"/>
            <a:ext cx="2057400" cy="620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*1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*2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*3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*4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*5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*6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*7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*8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*9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*10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581280" y="228600"/>
            <a:ext cx="1144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581280" y="838080"/>
            <a:ext cx="11448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581280" y="1447920"/>
            <a:ext cx="1144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05320" y="20574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505320" y="27432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505320" y="32767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505320" y="39625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1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505320" y="46483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505320" y="52578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7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505320" y="58672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705720" y="1219320"/>
            <a:ext cx="137160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zoom dir="out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371600" y="457200"/>
            <a:ext cx="2133720" cy="59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*1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*2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*3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*4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*5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*6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*7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*8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*9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*10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886200" y="304920"/>
            <a:ext cx="1144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886200" y="990720"/>
            <a:ext cx="1144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809880" y="16765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809880" y="22860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809880" y="28954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809880" y="35053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809880" y="41148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09880" y="4724280"/>
            <a:ext cx="190800" cy="2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809880" y="54100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09880" y="60199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324480" y="1295280"/>
            <a:ext cx="167652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ver dir="u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523880" y="457200"/>
            <a:ext cx="2210040" cy="590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*1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*2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*3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*4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*5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*6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*7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*8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*9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*10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038480" y="380880"/>
            <a:ext cx="11448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962520" y="10666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962520" y="16765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962520" y="22860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962520" y="28954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962520" y="35053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962520" y="41148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962520" y="48006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962520" y="54100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3962520" y="60958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095880" y="1600200"/>
            <a:ext cx="236232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204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hecker dir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676520" y="380880"/>
            <a:ext cx="2361960" cy="579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*1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*2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*3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*4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*5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*6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*7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*8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*9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*10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419720" y="228600"/>
            <a:ext cx="1141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267080" y="914400"/>
            <a:ext cx="266760" cy="295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2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267080" y="14479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267080" y="20574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267080" y="26668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267080" y="33526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267080" y="40384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267080" y="45720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267080" y="51814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267080" y="58672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477120" y="1295280"/>
            <a:ext cx="18288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zoom dir="out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752480" y="457200"/>
            <a:ext cx="2514600" cy="56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*1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*2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*3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*4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*5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*6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*7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*8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*9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*10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48320" y="380880"/>
            <a:ext cx="11412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0" y="9144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0" y="16002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1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0" y="21337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0" y="28195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0" y="34290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0" y="39625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9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0" y="45720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0" y="51055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3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0" y="57150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00800" y="1219320"/>
            <a:ext cx="182880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ver dir="r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981080" y="685800"/>
            <a:ext cx="2514600" cy="561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*1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*2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*3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*4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*5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*6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*7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*8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*9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*10=</a:t>
            </a:r>
            <a:endParaRPr b="0" lang="en-US" sz="20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876920" y="609480"/>
            <a:ext cx="11412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800600" y="11430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800600" y="17524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800600" y="23623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800600" y="29718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800600" y="35812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00600" y="41911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47242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800600" y="53341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800600" y="60199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553080" y="1371600"/>
            <a:ext cx="16765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cover dir="ld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676520" y="533520"/>
            <a:ext cx="2819160" cy="579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*1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*2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*3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*4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*5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*6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*7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*8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*9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*10=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800600" y="380880"/>
            <a:ext cx="11448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724280" y="9907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18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724280" y="16002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27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724280" y="22096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36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724280" y="28954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45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724280" y="3581280"/>
            <a:ext cx="22860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54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724280" y="41148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63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724280" y="480060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72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724280" y="53341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81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724280" y="6019920"/>
            <a:ext cx="22860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0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172200" y="1371600"/>
            <a:ext cx="190512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9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zoom dir="in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2T12:34:30Z</dcterms:created>
  <dc:creator>kaap</dc:creator>
  <dc:description/>
  <dc:language>en-US</dc:language>
  <cp:lastModifiedBy>kaap</cp:lastModifiedBy>
  <dcterms:modified xsi:type="dcterms:W3CDTF">2009-01-22T14:15:56Z</dcterms:modified>
  <cp:revision>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orward To">
    <vt:lpwstr>جداول</vt:lpwstr>
  </property>
</Properties>
</file>