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%D8%B7%D9%84%D9%82%D8%A9%20%D9%86%D8%A7%D8%B1.wav" ContentType="audio/x-wav"/>
  <Override PartName="/ppt/media/%D9%82%D9%86%D8%A8%D9%84%D8%A9.wav" ContentType="audio/x-wav"/>
  <Override PartName="/ppt/media/applause.wav" ContentType="audio/x-wav"/>
  <Override PartName="/ppt/media/000.wav" ContentType="audio/x-wav"/>
  <Override PartName="/ppt/media/555.WAV" ContentType="audio/x-wav"/>
  <Override PartName="/ppt/media/glass.wav" ContentType="audio/x-wav"/>
  <Override PartName="/ppt/media/666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12801600" cy="9144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2F9-50D5-45FB-AC63-DA7A5C0E7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10884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58680" y="5507640"/>
            <a:ext cx="10884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3058-5ABD-4651-9F31-F427333E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5868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3616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5A14-1297-44F8-899E-DDC7FB170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38960" y="264168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319240" y="264168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58680" y="550764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38960" y="550764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319240" y="5507640"/>
            <a:ext cx="3504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25CC-9236-4ECC-B476-B64051A3E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58680" y="2641680"/>
            <a:ext cx="10884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B0AC-13A3-41B7-8D18-3814D893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10884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6E40-905A-4C21-9D66-E22F8661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7456-3138-4EE4-957B-FF58EA192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2E2-4AC5-499E-8DA8-B69DFED4B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58680" y="812520"/>
            <a:ext cx="1088424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D344-E45F-44CC-BCA8-C1B83ED1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5868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0C55D-296D-4DED-AE80-FCD46273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36160" y="550764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741B-8FBA-49E5-B771-AF2D97D7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5868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36160" y="2641680"/>
            <a:ext cx="53114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58680" y="5507640"/>
            <a:ext cx="10884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BF7A-ECF8-4DC8-ADCE-708D642C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8680" y="812520"/>
            <a:ext cx="108842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8680" y="2641680"/>
            <a:ext cx="10884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58320" y="833112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75080" y="8331120"/>
            <a:ext cx="40514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175320" y="8331120"/>
            <a:ext cx="26672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78FB1-138D-40A7-BC81-CDDF9579646B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"/><Relationship Id="rId17" Type="http://schemas.openxmlformats.org/officeDocument/2006/relationships/slide" Target=""/><Relationship Id="rId18" Type="http://schemas.openxmlformats.org/officeDocument/2006/relationships/audio" Target="../media/camera.wav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666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audio" Target="../media/camera.wav"/><Relationship Id="rId4" Type="http://schemas.openxmlformats.org/officeDocument/2006/relationships/audio" Target="../media/&#1591;&#1604;&#1602;&#1577;%20&#1606;&#1575;&#1585;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&#1591;&#1604;&#1602;&#1577;%20&#1606;&#1575;&#1585;.wav"/><Relationship Id="rId4" Type="http://schemas.openxmlformats.org/officeDocument/2006/relationships/audio" Target="../media/&#1602;&#1606;&#1576;&#1604;&#1577;.wav"/><Relationship Id="rId5" Type="http://schemas.openxmlformats.org/officeDocument/2006/relationships/audio" Target="../media/&#1602;&#1606;&#1576;&#1604;&#1577;.wav"/><Relationship Id="rId6" Type="http://schemas.openxmlformats.org/officeDocument/2006/relationships/audio" Target="../media/&#1602;&#1606;&#1576;&#1604;&#1577;.wav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audio" Target="../media/&#1591;&#1604;&#1602;&#1577;%20&#1606;&#1575;&#1585;.wav"/><Relationship Id="rId6" Type="http://schemas.openxmlformats.org/officeDocument/2006/relationships/audio" Target="../media/&#1602;&#1606;&#1576;&#1604;&#1577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amera.wav"/><Relationship Id="rId3" Type="http://schemas.openxmlformats.org/officeDocument/2006/relationships/audio" Target="../media/&#1591;&#1604;&#1602;&#1577;%20&#1606;&#1575;&#1585;.wav"/><Relationship Id="rId4" Type="http://schemas.openxmlformats.org/officeDocument/2006/relationships/audio" Target="../media/&#1602;&#1606;&#1576;&#1604;&#1577;.wav"/><Relationship Id="rId5" Type="http://schemas.openxmlformats.org/officeDocument/2006/relationships/audio" Target="../media/&#1602;&#1606;&#1576;&#1604;&#1577;.wav"/><Relationship Id="rId6" Type="http://schemas.openxmlformats.org/officeDocument/2006/relationships/audio" Target="../media/&#1602;&#1606;&#1576;&#1604;&#1577;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000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glass.wav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audio" Target="../media/555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audio" Target="../media/camera.wav"/><Relationship Id="rId5" Type="http://schemas.openxmlformats.org/officeDocument/2006/relationships/audio" Target="../media/&#1591;&#1604;&#1602;&#1577;%20&#1606;&#1575;&#1585;.wav"/><Relationship Id="rId6" Type="http://schemas.openxmlformats.org/officeDocument/2006/relationships/audio" Target="../media/&#1602;&#1606;&#1576;&#1604;&#1577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camera.wav"/><Relationship Id="rId6" Type="http://schemas.openxmlformats.org/officeDocument/2006/relationships/audio" Target="../media/&#1591;&#1604;&#1602;&#1577;%20&#1606;&#1575;&#1585;.wav"/><Relationship Id="rId7" Type="http://schemas.openxmlformats.org/officeDocument/2006/relationships/audio" Target="../media/&#1602;&#1606;&#1576;&#1604;&#1577;.wav"/><Relationship Id="rId8" Type="http://schemas.openxmlformats.org/officeDocument/2006/relationships/audio" Target="../media/&#1602;&#1606;&#1576;&#1604;&#1577;.wav"/><Relationship Id="rId9" Type="http://schemas.openxmlformats.org/officeDocument/2006/relationships/audio" Target="../media/&#1602;&#1606;&#1576;&#1604;&#1577;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0"/>
            <a:ext cx="109440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3333cc"/>
                </a:solidFill>
                <a:latin typeface="Times New Roman"/>
              </a:rPr>
              <a:t>مسابقة جدول الضر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1295280" y="2895480"/>
            <a:ext cx="3048120" cy="91440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8610480" y="3048120"/>
            <a:ext cx="3048120" cy="91440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8305920" y="10666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1066680" y="10666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4724280" y="10666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8305920" y="24382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4724280" y="24382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066680" y="24382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9" action="ppaction://hlinksldjump"/>
          </p:cNvPr>
          <p:cNvSpPr/>
          <p:nvPr/>
        </p:nvSpPr>
        <p:spPr>
          <a:xfrm>
            <a:off x="8305920" y="38098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0" action="ppaction://hlinksldjump"/>
          </p:cNvPr>
          <p:cNvSpPr/>
          <p:nvPr/>
        </p:nvSpPr>
        <p:spPr>
          <a:xfrm>
            <a:off x="4724280" y="38098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1" action="ppaction://hlinksldjump"/>
          </p:cNvPr>
          <p:cNvSpPr/>
          <p:nvPr/>
        </p:nvSpPr>
        <p:spPr>
          <a:xfrm>
            <a:off x="1066680" y="38098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458200" y="1522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عمان الثان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15228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مدرسة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أمين الأساس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47720" y="8101080"/>
            <a:ext cx="9068040" cy="202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إعداد معلم المادة : </a:t>
            </a:r>
            <a:r>
              <a:rPr b="1" lang="ar-JO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أحمد ياسين</a:t>
            </a:r>
            <a:r>
              <a:rPr b="1" lang="ar-SA" sz="36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ar-JO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      </a:t>
            </a:r>
            <a:r>
              <a:rPr b="1" lang="ar-JO" sz="3600" spc="-1" strike="noStrike">
                <a:solidFill>
                  <a:srgbClr val="000000"/>
                </a:solidFill>
                <a:latin typeface="Times New Roman"/>
                <a:cs typeface="Times New Roman"/>
              </a:rPr>
              <a:t>المشرف كنعان عود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2" action="ppaction://hlinksldjump"/>
          </p:cNvPr>
          <p:cNvSpPr/>
          <p:nvPr/>
        </p:nvSpPr>
        <p:spPr>
          <a:xfrm>
            <a:off x="8305920" y="51814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3" action="ppaction://hlinksldjump"/>
          </p:cNvPr>
          <p:cNvSpPr/>
          <p:nvPr/>
        </p:nvSpPr>
        <p:spPr>
          <a:xfrm>
            <a:off x="4724280" y="51814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4" action="ppaction://hlinksldjump"/>
          </p:cNvPr>
          <p:cNvSpPr/>
          <p:nvPr/>
        </p:nvSpPr>
        <p:spPr>
          <a:xfrm>
            <a:off x="1066680" y="51814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8272440" y="658800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4745160" y="651672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7" action="ppaction://hlinksldjump"/>
          </p:cNvPr>
          <p:cNvSpPr/>
          <p:nvPr/>
        </p:nvSpPr>
        <p:spPr>
          <a:xfrm>
            <a:off x="1066680" y="6553080"/>
            <a:ext cx="34290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60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/>
    <p:sndAc>
      <p:stSnd>
        <p:snd r:embed="rId18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90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500"/>
                            </p:stCondLst>
                            <p:childTnLst>
                              <p:par>
                                <p:cTn id="2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3000"/>
                            </p:stCondLst>
                            <p:childTnLst>
                              <p:par>
                                <p:cTn id="2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3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2500"/>
                            </p:stCondLst>
                            <p:childTnLst>
                              <p:par>
                                <p:cTn id="2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500"/>
                            </p:stCondLst>
                            <p:childTnLst>
                              <p:par>
                                <p:cTn id="3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0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35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828800" y="3505320"/>
            <a:ext cx="1021068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5000" spc="-1" strike="noStrike">
                <a:solidFill>
                  <a:srgbClr val="3333cc"/>
                </a:solidFill>
                <a:latin typeface="Times New Roman"/>
                <a:cs typeface="Al-Mujahed Classic"/>
              </a:rPr>
              <a:t>الاجابة صحيحة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7162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7696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9144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666.WAV"/>
      </p:stSnd>
    </p:sndAc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3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9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500"/>
                            </p:stCondLst>
                            <p:childTnLst>
                              <p:par>
                                <p:cTn id="4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6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3" name="camera.wav"/>
      </p:stSnd>
    </p:sndAc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7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8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8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camera.wav"/>
      </p:stSnd>
    </p:sndAc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50000">
              <a:srgbClr val="fefefe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00"/>
              </a:gs>
              <a:gs pos="50000">
                <a:srgbClr val="fefefe"/>
              </a:gs>
              <a:gs pos="100000">
                <a:srgbClr val="0066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1040" dir="7920846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2000">
    <p:random/>
    <p:sndAc>
      <p:stSnd>
        <p:snd r:embed="rId4" name="camera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0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2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11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camera.wav"/>
      </p:stSnd>
    </p:sndAc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15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09480" y="2742480"/>
            <a:ext cx="110491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5000" spc="-1" strike="noStrike">
                <a:solidFill>
                  <a:srgbClr val="3333cc"/>
                </a:solidFill>
                <a:latin typeface="Times New Roman"/>
                <a:cs typeface="Mohammad Annoktah"/>
              </a:rPr>
              <a:t>ممتاز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34320" y="7315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firstslide"/>
          </p:cNvPr>
          <p:cNvSpPr/>
          <p:nvPr/>
        </p:nvSpPr>
        <p:spPr>
          <a:xfrm>
            <a:off x="9144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1" name="000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676520" y="2286000"/>
            <a:ext cx="103629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  <a:ea typeface="Al-Mujahed Al-Anbobi"/>
              </a:rPr>
              <a:t>  </a:t>
            </a:r>
            <a:r>
              <a:rPr b="1" lang="ar-SA" sz="15000" spc="-1" strike="noStrike">
                <a:solidFill>
                  <a:srgbClr val="3333cc"/>
                </a:solidFill>
                <a:latin typeface="Times New Roman"/>
                <a:cs typeface="Al-Mujahed Al-Anbobi"/>
              </a:rPr>
              <a:t>خطأ</a:t>
            </a:r>
            <a:r>
              <a:rPr b="1" lang="ar-SA" sz="9600" spc="-1" strike="noStrike">
                <a:solidFill>
                  <a:srgbClr val="000000"/>
                </a:solidFill>
                <a:latin typeface="Times New Roman"/>
                <a:ea typeface="Al-Mujahed Al-Anbobi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600" spc="-1" strike="noStrike">
                <a:solidFill>
                  <a:srgbClr val="ff0000"/>
                </a:solidFill>
                <a:latin typeface="Times New Roman"/>
                <a:cs typeface="Al-Mujahed Al-Anbobi"/>
              </a:rPr>
              <a:t>حاول مرة أخرى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19320" y="80010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firstslide"/>
          </p:cNvPr>
          <p:cNvSpPr/>
          <p:nvPr/>
        </p:nvSpPr>
        <p:spPr>
          <a:xfrm>
            <a:off x="22860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848720" y="7924680"/>
            <a:ext cx="933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008000"/>
                </a:solidFill>
                <a:latin typeface="Traditional Arabic"/>
              </a:rPr>
              <a:t>عودة</a:t>
            </a:r>
            <a:endParaRPr b="1" lang="en-US" sz="2400" spc="1" strike="noStrike">
              <a:ln w="0">
                <a:noFill/>
              </a:ln>
              <a:solidFill>
                <a:srgbClr val="008000"/>
              </a:solidFill>
              <a:latin typeface="Traditional Arabic"/>
              <a:ea typeface="Traditional Arabic"/>
            </a:endParaRPr>
          </a:p>
        </p:txBody>
      </p:sp>
    </p:spTree>
  </p:cSld>
  <p:transition advTm="2000">
    <p:random/>
    <p:sndAc>
      <p:stSnd>
        <p:snd r:embed="rId1" name="glas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fefefe"/>
            </a:gs>
            <a:gs pos="100000">
              <a:srgbClr val="6633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85800" y="3200400"/>
            <a:ext cx="117349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5000" spc="-1" strike="noStrike">
                <a:solidFill>
                  <a:srgbClr val="3333cc"/>
                </a:solidFill>
                <a:latin typeface="Times New Roman"/>
                <a:cs typeface="Traditional Arabic"/>
              </a:rPr>
              <a:t>أحسنت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6781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79246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1" action="ppaction://hlinksldjump"/>
          </p:cNvPr>
          <p:cNvSpPr/>
          <p:nvPr/>
        </p:nvSpPr>
        <p:spPr>
          <a:xfrm>
            <a:off x="914400" y="777240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9900"/>
                </a:solidFill>
                <a:latin typeface="Times New Roman"/>
              </a:rPr>
              <a:t>جدول الضر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2" name="555.WAV"/>
      </p:stSnd>
    </p:sndAc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5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0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8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2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4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4" name="camera.wav"/>
      </p:stSnd>
    </p:sndAc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3500"/>
                            </p:stCondLst>
                            <p:childTnLst>
                              <p:par>
                                <p:cTn id="1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50000">
              <a:srgbClr val="fefefe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137440" y="7518240"/>
            <a:ext cx="26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724280" y="1219320"/>
            <a:ext cx="3429000" cy="167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fefefe"/>
              </a:gs>
              <a:gs pos="100000">
                <a:srgbClr val="009900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×</a:t>
            </a:r>
            <a:r>
              <a:rPr b="1" lang="ar-SA" sz="8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2" action="ppaction://hlinksldjump"/>
          </p:cNvPr>
          <p:cNvSpPr/>
          <p:nvPr/>
        </p:nvSpPr>
        <p:spPr>
          <a:xfrm>
            <a:off x="5029200" y="5715000"/>
            <a:ext cx="2819520" cy="236232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2320"/>
              <a:gd name="textAreaBottom" fmla="*/ 1823040 h 236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0000ff"/>
              </a:gs>
              <a:gs pos="50000">
                <a:srgbClr val="f2f2fe"/>
              </a:gs>
              <a:gs pos="100000">
                <a:srgbClr val="0000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3" action="ppaction://hlinksldjump"/>
          </p:cNvPr>
          <p:cNvSpPr/>
          <p:nvPr/>
        </p:nvSpPr>
        <p:spPr>
          <a:xfrm>
            <a:off x="883908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996633"/>
              </a:gs>
              <a:gs pos="50000">
                <a:srgbClr val="fefefe"/>
              </a:gs>
              <a:gs pos="100000">
                <a:srgbClr val="996633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6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4" action="ppaction://hlinksldjump"/>
          </p:cNvPr>
          <p:cNvSpPr/>
          <p:nvPr/>
        </p:nvSpPr>
        <p:spPr>
          <a:xfrm>
            <a:off x="1143000" y="3962520"/>
            <a:ext cx="2819520" cy="2361960"/>
          </a:xfrm>
          <a:custGeom>
            <a:avLst/>
            <a:gdLst>
              <a:gd name="textAreaLeft" fmla="*/ 643680 w 2819520"/>
              <a:gd name="textAreaRight" fmla="*/ 2175840 w 2819520"/>
              <a:gd name="textAreaTop" fmla="*/ 539280 h 2361960"/>
              <a:gd name="textAreaBottom" fmla="*/ 182268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a50021"/>
              </a:gs>
              <a:gs pos="50000">
                <a:srgbClr val="fefefe"/>
              </a:gs>
              <a:gs pos="100000">
                <a:srgbClr val="a50021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663300"/>
                </a:solidFill>
                <a:latin typeface="Times New Roman"/>
              </a:rPr>
              <a:t>3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2000">
    <p:random/>
    <p:sndAc>
      <p:stSnd>
        <p:snd r:embed="rId5" name="camera.wav"/>
      </p:stSnd>
    </p:sndAc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D8%B7%D9%84%D9%82%D8%A9%20%D9%86%D8%A7%D8%B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%D9%82%D9%86%D8%A8%D9%84%D8%A9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1T02:02:38Z</dcterms:created>
  <dc:creator>IBRAHIM ABDOH</dc:creator>
  <dc:description/>
  <dc:language>en-US</dc:language>
  <cp:lastModifiedBy>user</cp:lastModifiedBy>
  <dcterms:modified xsi:type="dcterms:W3CDTF">2009-10-10T18:50:12Z</dcterms:modified>
  <cp:revision>1290</cp:revision>
  <dc:subject/>
  <dc:title>لا يوجد عنوان للشريحة</dc:title>
</cp:coreProperties>
</file>