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35.gif" ContentType="image/gif"/>
  <Override PartName="/ppt/media/image23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9.png" ContentType="image/png"/>
  <Override PartName="/ppt/media/image26.gif" ContentType="image/gif"/>
  <Override PartName="/ppt/media/image27.gif" ContentType="image/gif"/>
  <Override PartName="/ppt/media/image8.png" ContentType="image/png"/>
  <Override PartName="/ppt/media/image11.gif" ContentType="image/gif"/>
  <Override PartName="/ppt/media/image4.gif" ContentType="image/gif"/>
  <Override PartName="/ppt/media/image34.gif" ContentType="image/gif"/>
  <Override PartName="/ppt/media/image10.gif" ContentType="image/gif"/>
  <Override PartName="/ppt/media/image12.jpeg" ContentType="image/jpeg"/>
  <Override PartName="/ppt/media/image7.gif" ContentType="image/gif"/>
  <Override PartName="/ppt/media/image37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30.png" ContentType="image/png"/>
  <Override PartName="/ppt/media/image38.gif" ContentType="image/gif"/>
  <Override PartName="/ppt/media/image33.gif" ContentType="image/gif"/>
  <Override PartName="/ppt/media/image3.gif" ContentType="image/gif"/>
  <Override PartName="/ppt/media/image29.png" ContentType="image/png"/>
  <Override PartName="/ppt/media/image36.gif" ContentType="image/gif"/>
  <Override PartName="/ppt/media/image6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22.gif" ContentType="image/gif"/>
  <Override PartName="/ppt/media/image15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B40-0598-41D1-B17C-B64A523B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1F2-6102-4F32-9BF6-14C2E8AB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CD8-1E5D-42AD-B61C-C2A9AFA1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27E-6248-4D6A-BBE9-17853018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01D-9540-46A7-A31E-43CC9357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DF3-09A1-40AA-969A-72CF7F8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82F-6257-4D02-BAE3-5CD29657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2C6-EE86-41B3-8D5B-B2354732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E70-1C61-43DC-8819-71F2A35E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624-AAED-4A3E-900B-2F8A1AB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998-7EE5-4D25-AC28-7992A181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30F-05A9-40FF-A3FA-1C7F05FB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7AE-C3CB-4384-9A13-4CBB0369E4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5.gif"/><Relationship Id="rId5" Type="http://schemas.openxmlformats.org/officeDocument/2006/relationships/image" Target="../media/image3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6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8.png"/><Relationship Id="rId6" Type="http://schemas.openxmlformats.org/officeDocument/2006/relationships/image" Target="../media/image1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5.png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9.png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.gif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6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38.gif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7.gif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7.gif"/><Relationship Id="rId18" Type="http://schemas.openxmlformats.org/officeDocument/2006/relationships/image" Target="../media/image4.gif"/><Relationship Id="rId19" Type="http://schemas.openxmlformats.org/officeDocument/2006/relationships/image" Target="../media/image10.gif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1.gif"/><Relationship Id="rId23" Type="http://schemas.openxmlformats.org/officeDocument/2006/relationships/image" Target="../media/image12.jpeg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4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5.png"/><Relationship Id="rId31" Type="http://schemas.openxmlformats.org/officeDocument/2006/relationships/image" Target="../media/image16.gif"/><Relationship Id="rId32" Type="http://schemas.openxmlformats.org/officeDocument/2006/relationships/image" Target="../media/image17.gif"/><Relationship Id="rId33" Type="http://schemas.openxmlformats.org/officeDocument/2006/relationships/image" Target="../media/image17.gif"/><Relationship Id="rId34" Type="http://schemas.openxmlformats.org/officeDocument/2006/relationships/image" Target="../media/image18.gif"/><Relationship Id="rId35" Type="http://schemas.openxmlformats.org/officeDocument/2006/relationships/image" Target="../media/image19.pn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20.gi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7.gif"/><Relationship Id="rId10" Type="http://schemas.openxmlformats.org/officeDocument/2006/relationships/image" Target="../media/image21.gif"/><Relationship Id="rId11" Type="http://schemas.openxmlformats.org/officeDocument/2006/relationships/image" Target="../media/image3.gif"/><Relationship Id="rId12" Type="http://schemas.openxmlformats.org/officeDocument/2006/relationships/image" Target="../media/image2.png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24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.gif"/><Relationship Id="rId4" Type="http://schemas.openxmlformats.org/officeDocument/2006/relationships/image" Target="../media/image7.gif"/><Relationship Id="rId5" Type="http://schemas.openxmlformats.org/officeDocument/2006/relationships/image" Target="../media/image27.gif"/><Relationship Id="rId6" Type="http://schemas.openxmlformats.org/officeDocument/2006/relationships/image" Target="../media/image11.gif"/><Relationship Id="rId7" Type="http://schemas.openxmlformats.org/officeDocument/2006/relationships/image" Target="../media/image14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image" Target="../media/image31.gif"/><Relationship Id="rId6" Type="http://schemas.openxmlformats.org/officeDocument/2006/relationships/image" Target="../media/image1.gif"/><Relationship Id="rId7" Type="http://schemas.openxmlformats.org/officeDocument/2006/relationships/image" Target="../media/image3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مل الم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أحمد ياس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مع أمنياتي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0"/>
            <a:ext cx="7274160" cy="206064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59280" y="404640"/>
            <a:ext cx="36003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دوات المدرسي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93080" y="279396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132000" y="2276640"/>
            <a:ext cx="2881440" cy="122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236000" y="1989000"/>
            <a:ext cx="1554120" cy="13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77080" y="3645000"/>
            <a:ext cx="1655640" cy="1434600"/>
          </a:xfrm>
          <a:prstGeom prst="rect">
            <a:avLst/>
          </a:prstGeom>
          <a:solidFill>
            <a:srgbClr val="72f1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كت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2304720" cy="1191240"/>
          </a:xfrm>
          <a:prstGeom prst="rect">
            <a:avLst/>
          </a:prstGeom>
          <a:solidFill>
            <a:srgbClr val="f3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دوات الرس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2205000"/>
            <a:ext cx="309708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0" y="2637000"/>
            <a:ext cx="3097080" cy="895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000" y="3645000"/>
            <a:ext cx="208764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أقل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64000" y="429264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6516720" y="5445000"/>
            <a:ext cx="1160280" cy="14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5867280" y="256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1332000" y="4221000"/>
            <a:ext cx="2268360" cy="2637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92720" y="2205000"/>
            <a:ext cx="1222560" cy="504720"/>
          </a:xfrm>
          <a:prstGeom prst="wedgeRectCallout">
            <a:avLst>
              <a:gd name="adj1" fmla="val 72337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00280"/>
            <a:ext cx="1258920" cy="504720"/>
          </a:xfrm>
          <a:prstGeom prst="wedgeRectCallout">
            <a:avLst>
              <a:gd name="adj1" fmla="val 71689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700280"/>
            <a:ext cx="1297080" cy="504720"/>
          </a:xfrm>
          <a:prstGeom prst="wedgeRectCallout">
            <a:avLst>
              <a:gd name="adj1" fmla="val 71050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2276640"/>
            <a:ext cx="1079640" cy="504720"/>
          </a:xfrm>
          <a:prstGeom prst="wedgeRectCallout">
            <a:avLst>
              <a:gd name="adj1" fmla="val 75296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651640" y="5373720"/>
            <a:ext cx="433080" cy="1052640"/>
          </a:xfrm>
          <a:prstGeom prst="flowChartTermina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5373720"/>
            <a:ext cx="433440" cy="1052640"/>
          </a:xfrm>
          <a:prstGeom prst="flowChartTerminator">
            <a:avLst/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73080"/>
            <a:ext cx="5400720" cy="476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0"/>
            <a:ext cx="144360" cy="3213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605080" y="0"/>
            <a:ext cx="142920" cy="306864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00720" y="62064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51280" y="620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1008000" cy="366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276720" y="146160"/>
            <a:ext cx="1728720" cy="40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956720" y="1413000"/>
            <a:ext cx="434880" cy="49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740720" y="620640"/>
            <a:ext cx="736560" cy="60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4427640" y="549360"/>
            <a:ext cx="1081080" cy="79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3276720" y="1268280"/>
            <a:ext cx="5256000" cy="141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276720" y="1916280"/>
            <a:ext cx="5327640" cy="241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3348000" y="2349360"/>
            <a:ext cx="5256360" cy="238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tretch/>
        </p:blipFill>
        <p:spPr>
          <a:xfrm>
            <a:off x="7105680" y="1413000"/>
            <a:ext cx="27468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5435640" y="907920"/>
            <a:ext cx="27612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7380360" y="1341360"/>
            <a:ext cx="644400" cy="43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5003640" y="476280"/>
            <a:ext cx="149400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5219640" y="1052640"/>
            <a:ext cx="25560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4932360" y="1052640"/>
            <a:ext cx="23328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4572000" y="1052640"/>
            <a:ext cx="27612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3492360" y="476280"/>
            <a:ext cx="36036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6012000" y="1341360"/>
            <a:ext cx="21564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6516720" y="1268280"/>
            <a:ext cx="19368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6227640" y="134136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3"/>
          <a:stretch/>
        </p:blipFill>
        <p:spPr>
          <a:xfrm>
            <a:off x="7740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"/>
          <a:stretch/>
        </p:blipFill>
        <p:spPr>
          <a:xfrm>
            <a:off x="7308720" y="1989000"/>
            <a:ext cx="862200" cy="38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5"/>
          <a:stretch/>
        </p:blipFill>
        <p:spPr>
          <a:xfrm>
            <a:off x="702000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6"/>
          <a:stretch/>
        </p:blipFill>
        <p:spPr>
          <a:xfrm>
            <a:off x="6732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7"/>
          <a:stretch/>
        </p:blipFill>
        <p:spPr>
          <a:xfrm>
            <a:off x="6156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8"/>
          <a:stretch/>
        </p:blipFill>
        <p:spPr>
          <a:xfrm>
            <a:off x="5148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9"/>
          <a:stretch/>
        </p:blipFill>
        <p:spPr>
          <a:xfrm>
            <a:off x="4356000" y="1989000"/>
            <a:ext cx="647640" cy="324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3348000" y="549360"/>
            <a:ext cx="518472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49360"/>
            <a:ext cx="5256360" cy="25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341360"/>
            <a:ext cx="2808360" cy="865440"/>
          </a:xfrm>
          <a:prstGeom prst="flowChartTerminator">
            <a:avLst/>
          </a:pr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دكان مغل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4724280"/>
            <a:ext cx="3168720" cy="1871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429000"/>
            <a:ext cx="288720" cy="1584360"/>
          </a:xfrm>
          <a:prstGeom prst="flowChartTerminator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565360"/>
            <a:ext cx="792000" cy="863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619640" y="3643560"/>
            <a:ext cx="1079640" cy="1224000"/>
          </a:xfrm>
          <a:prstGeom prst="flowChartDelay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6021360"/>
            <a:ext cx="504720" cy="50328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445000"/>
            <a:ext cx="288720" cy="28764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45000"/>
            <a:ext cx="289080" cy="36036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852640"/>
            <a:ext cx="21564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2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820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4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0"/>
            <a:ext cx="1871640" cy="2852640"/>
          </a:xfrm>
          <a:prstGeom prst="cloudCallout">
            <a:avLst>
              <a:gd name="adj1" fmla="val -65435"/>
              <a:gd name="adj2" fmla="val 46773"/>
            </a:avLst>
          </a:prstGeom>
          <a:gradFill rotWithShape="0">
            <a:gsLst>
              <a:gs pos="0">
                <a:srgbClr val="72f15d"/>
              </a:gs>
              <a:gs pos="50000">
                <a:srgbClr val="ffffff"/>
              </a:gs>
              <a:gs pos="100000">
                <a:srgbClr val="72f1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له أكبر قد قامت الصل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4720" y="4508640"/>
            <a:ext cx="43344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486900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5229360"/>
            <a:ext cx="43308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00536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797360"/>
            <a:ext cx="43200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28000" y="4437000"/>
            <a:ext cx="433440" cy="1052640"/>
          </a:xfrm>
          <a:prstGeom prst="flowChartTerminator">
            <a:avLst/>
          </a:prstGeom>
          <a:gradFill rotWithShape="0">
            <a:gsLst>
              <a:gs pos="0">
                <a:srgbClr val="9d6f1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28000" y="393372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472428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0"/>
          <a:stretch/>
        </p:blipFill>
        <p:spPr>
          <a:xfrm flipH="1">
            <a:off x="3850920" y="5734080"/>
            <a:ext cx="865080" cy="1123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4000" y="1916280"/>
            <a:ext cx="647640" cy="863280"/>
          </a:xfrm>
          <a:prstGeom prst="flowChartExtra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1967040" cy="1366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 rot="19006800">
            <a:off x="0" y="2060280"/>
            <a:ext cx="729612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63df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شكراً لحسن استماعك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463df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علم من خلال النشاط</a:t>
            </a:r>
            <a:br>
              <a:rPr sz="4000"/>
            </a:b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ستراتيجية المشر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م تنفيذ المشروع بإحضار الأدوات الموجودة في العرض التقديمي داخل غرفة الصف والقيام بعملية البيع والشراء من قبل الطلا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260280"/>
            <a:ext cx="6409080" cy="3529080"/>
          </a:xfrm>
          <a:prstGeom prst="cloudCallout">
            <a:avLst>
              <a:gd name="adj1" fmla="val -111"/>
              <a:gd name="adj2" fmla="val 34074"/>
            </a:avLst>
          </a:pr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3366ff"/>
                </a:solidFill>
                <a:latin typeface="Arial"/>
              </a:rPr>
              <a:t>المشرو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581360"/>
            <a:ext cx="7561080" cy="1800360"/>
          </a:xfrm>
          <a:prstGeom prst="flowChartTerminator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9900ff"/>
                </a:solidFill>
                <a:latin typeface="Arial"/>
              </a:rPr>
              <a:t>دكان الأمانة لِصاحبه ابو محم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72360" y="2997360"/>
            <a:ext cx="432000" cy="57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0"/>
            <a:ext cx="8137800" cy="90792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428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492280"/>
            <a:ext cx="8136000" cy="35892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89160" h="21600">
                <a:moveTo>
                  <a:pt x="0" y="0"/>
                </a:moveTo>
                <a:lnTo>
                  <a:pt x="489160" y="0"/>
                </a:lnTo>
                <a:lnTo>
                  <a:pt x="489160" y="21600"/>
                </a:lnTo>
                <a:lnTo>
                  <a:pt x="0" y="21600"/>
                </a:lnTo>
                <a:close/>
              </a:path>
              <a:path fill="lightenLess" w="489160" h="21600">
                <a:moveTo>
                  <a:pt x="0" y="0"/>
                </a:moveTo>
                <a:lnTo>
                  <a:pt x="489160" y="0"/>
                </a:lnTo>
                <a:lnTo>
                  <a:pt x="487760" y="1400"/>
                </a:lnTo>
                <a:lnTo>
                  <a:pt x="1400" y="1400"/>
                </a:lnTo>
                <a:close/>
              </a:path>
              <a:path fill="darken" w="489160" h="21600">
                <a:moveTo>
                  <a:pt x="489160" y="0"/>
                </a:moveTo>
                <a:lnTo>
                  <a:pt x="489160" y="21600"/>
                </a:lnTo>
                <a:lnTo>
                  <a:pt x="487760" y="20200"/>
                </a:lnTo>
                <a:lnTo>
                  <a:pt x="487760" y="1400"/>
                </a:lnTo>
                <a:close/>
              </a:path>
              <a:path fill="darkenLess" w="489160" h="21600">
                <a:moveTo>
                  <a:pt x="48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760" y="20200"/>
                </a:lnTo>
                <a:close/>
              </a:path>
              <a:path fill="lighten" w="48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076640"/>
            <a:ext cx="8136000" cy="36036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87207" h="21600">
                <a:moveTo>
                  <a:pt x="0" y="0"/>
                </a:moveTo>
                <a:lnTo>
                  <a:pt x="487207" y="0"/>
                </a:lnTo>
                <a:lnTo>
                  <a:pt x="487207" y="21600"/>
                </a:lnTo>
                <a:lnTo>
                  <a:pt x="0" y="21600"/>
                </a:lnTo>
                <a:close/>
              </a:path>
              <a:path fill="lightenLess" w="487207" h="21600">
                <a:moveTo>
                  <a:pt x="0" y="0"/>
                </a:moveTo>
                <a:lnTo>
                  <a:pt x="487207" y="0"/>
                </a:lnTo>
                <a:lnTo>
                  <a:pt x="485807" y="1400"/>
                </a:lnTo>
                <a:lnTo>
                  <a:pt x="1400" y="1400"/>
                </a:lnTo>
                <a:close/>
              </a:path>
              <a:path fill="darken" w="487207" h="21600">
                <a:moveTo>
                  <a:pt x="487207" y="0"/>
                </a:moveTo>
                <a:lnTo>
                  <a:pt x="487207" y="21600"/>
                </a:lnTo>
                <a:lnTo>
                  <a:pt x="485807" y="20200"/>
                </a:lnTo>
                <a:lnTo>
                  <a:pt x="485807" y="1400"/>
                </a:lnTo>
                <a:close/>
              </a:path>
              <a:path fill="darkenLess" w="487207" h="21600">
                <a:moveTo>
                  <a:pt x="487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07" y="20200"/>
                </a:lnTo>
                <a:close/>
              </a:path>
              <a:path fill="lighten" w="487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805360"/>
            <a:ext cx="8207640" cy="360360"/>
          </a:xfrm>
          <a:custGeom>
            <a:avLst/>
            <a:gdLst>
              <a:gd name="textAreaLeft" fmla="*/ 23040 w 8207640"/>
              <a:gd name="textAreaRight" fmla="*/ 8184600 w 820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1497" h="21600">
                <a:moveTo>
                  <a:pt x="0" y="0"/>
                </a:moveTo>
                <a:lnTo>
                  <a:pt x="491497" y="0"/>
                </a:lnTo>
                <a:lnTo>
                  <a:pt x="491497" y="21600"/>
                </a:lnTo>
                <a:lnTo>
                  <a:pt x="0" y="21600"/>
                </a:lnTo>
                <a:close/>
              </a:path>
              <a:path fill="lightenLess" w="491497" h="21600">
                <a:moveTo>
                  <a:pt x="0" y="0"/>
                </a:moveTo>
                <a:lnTo>
                  <a:pt x="491497" y="0"/>
                </a:lnTo>
                <a:lnTo>
                  <a:pt x="490097" y="1400"/>
                </a:lnTo>
                <a:lnTo>
                  <a:pt x="1400" y="1400"/>
                </a:lnTo>
                <a:close/>
              </a:path>
              <a:path fill="darken" w="491497" h="21600">
                <a:moveTo>
                  <a:pt x="491497" y="0"/>
                </a:moveTo>
                <a:lnTo>
                  <a:pt x="491497" y="21600"/>
                </a:lnTo>
                <a:lnTo>
                  <a:pt x="490097" y="20200"/>
                </a:lnTo>
                <a:lnTo>
                  <a:pt x="490097" y="1400"/>
                </a:lnTo>
                <a:close/>
              </a:path>
              <a:path fill="darkenLess" w="491497" h="21600">
                <a:moveTo>
                  <a:pt x="49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097" y="20200"/>
                </a:lnTo>
                <a:close/>
              </a:path>
              <a:path fill="lighten" w="49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84360" y="1052640"/>
            <a:ext cx="216072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2852640"/>
            <a:ext cx="1655640" cy="10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259236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30956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9640" y="5084640"/>
            <a:ext cx="324036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11280" y="2924280"/>
            <a:ext cx="1152360" cy="102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1547640" y="2997360"/>
            <a:ext cx="1656000" cy="102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1065240" cy="127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82560" y="73080"/>
            <a:ext cx="1728720" cy="83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1280" y="4437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380360" y="314172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7812000" y="285264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7524720" y="2852640"/>
            <a:ext cx="28728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7308720" y="314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539640" y="1197000"/>
            <a:ext cx="1224000" cy="12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1476360" y="2852640"/>
            <a:ext cx="71928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7308720" y="1197000"/>
            <a:ext cx="116856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5867280" y="162864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1"/>
          <a:stretch/>
        </p:blipFill>
        <p:spPr>
          <a:xfrm>
            <a:off x="5796000" y="177336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2"/>
          <a:stretch/>
        </p:blipFill>
        <p:spPr>
          <a:xfrm>
            <a:off x="4067280" y="112536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2843280" y="2997360"/>
            <a:ext cx="1584360" cy="107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4"/>
          <a:stretch/>
        </p:blipFill>
        <p:spPr>
          <a:xfrm>
            <a:off x="539640" y="2421000"/>
            <a:ext cx="8136000" cy="36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5"/>
          <a:stretch/>
        </p:blipFill>
        <p:spPr>
          <a:xfrm>
            <a:off x="539640" y="407664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6"/>
          <a:stretch/>
        </p:blipFill>
        <p:spPr>
          <a:xfrm>
            <a:off x="611280" y="580536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7"/>
          <a:stretch/>
        </p:blipFill>
        <p:spPr>
          <a:xfrm>
            <a:off x="1692360" y="98100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8"/>
          <a:stretch/>
        </p:blipFill>
        <p:spPr>
          <a:xfrm>
            <a:off x="4067280" y="1268280"/>
            <a:ext cx="16556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9"/>
          <a:stretch/>
        </p:blipFill>
        <p:spPr>
          <a:xfrm>
            <a:off x="3851280" y="148428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0"/>
          <a:stretch/>
        </p:blipFill>
        <p:spPr>
          <a:xfrm>
            <a:off x="471636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1"/>
          <a:stretch/>
        </p:blipFill>
        <p:spPr>
          <a:xfrm>
            <a:off x="3059280" y="4508640"/>
            <a:ext cx="1511280" cy="12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2"/>
          <a:stretch/>
        </p:blipFill>
        <p:spPr>
          <a:xfrm>
            <a:off x="622764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3"/>
          <a:stretch/>
        </p:blipFill>
        <p:spPr>
          <a:xfrm>
            <a:off x="615636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4"/>
          <a:stretch/>
        </p:blipFill>
        <p:spPr>
          <a:xfrm>
            <a:off x="4427640" y="2997360"/>
            <a:ext cx="3603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5"/>
          <a:stretch/>
        </p:blipFill>
        <p:spPr>
          <a:xfrm>
            <a:off x="4859280" y="1052640"/>
            <a:ext cx="1494000" cy="132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84360" y="2565360"/>
            <a:ext cx="1081080" cy="432000"/>
          </a:xfrm>
          <a:prstGeom prst="wedgeRectCallout">
            <a:avLst>
              <a:gd name="adj1" fmla="val -6680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2565360"/>
            <a:ext cx="1009800" cy="432000"/>
          </a:xfrm>
          <a:prstGeom prst="wedgeRectCallout">
            <a:avLst>
              <a:gd name="adj1" fmla="val -10689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65360"/>
            <a:ext cx="1082880" cy="358920"/>
          </a:xfrm>
          <a:prstGeom prst="wedgeRectCallout">
            <a:avLst>
              <a:gd name="adj1" fmla="val -6597"/>
              <a:gd name="adj2" fmla="val 10175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149720"/>
            <a:ext cx="1152720" cy="358920"/>
          </a:xfrm>
          <a:prstGeom prst="wedgeRectCallout">
            <a:avLst>
              <a:gd name="adj1" fmla="val -3166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4149720"/>
            <a:ext cx="1082520" cy="431640"/>
          </a:xfrm>
          <a:prstGeom prst="wedgeRectCallout">
            <a:avLst>
              <a:gd name="adj1" fmla="val -65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4149720"/>
            <a:ext cx="1154160" cy="358920"/>
          </a:xfrm>
          <a:prstGeom prst="wedgeRectCallout">
            <a:avLst>
              <a:gd name="adj1" fmla="val -3097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149720"/>
            <a:ext cx="1081080" cy="358920"/>
          </a:xfrm>
          <a:prstGeom prst="wedgeRectCallout">
            <a:avLst>
              <a:gd name="adj1" fmla="val -6680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877000"/>
            <a:ext cx="1152360" cy="504720"/>
          </a:xfrm>
          <a:prstGeom prst="wedgeRectCallout">
            <a:avLst>
              <a:gd name="adj1" fmla="val -3166"/>
              <a:gd name="adj2" fmla="val 691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5950080"/>
            <a:ext cx="1441440" cy="503280"/>
          </a:xfrm>
          <a:prstGeom prst="wedgeRectCallout">
            <a:avLst>
              <a:gd name="adj1" fmla="val 7490"/>
              <a:gd name="adj2" fmla="val 709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950080"/>
            <a:ext cx="1296720" cy="431640"/>
          </a:xfrm>
          <a:prstGeom prst="wedgeRectCallout">
            <a:avLst>
              <a:gd name="adj1" fmla="val 2754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5877000"/>
            <a:ext cx="1154160" cy="431640"/>
          </a:xfrm>
          <a:prstGeom prst="wedgeRectCallout">
            <a:avLst>
              <a:gd name="adj1" fmla="val -30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404640"/>
            <a:ext cx="8424720" cy="1312920"/>
          </a:xfrm>
          <a:prstGeom prst="rect">
            <a:avLst/>
          </a:prstGeom>
          <a:gradFill rotWithShape="0">
            <a:gsLst>
              <a:gs pos="0">
                <a:srgbClr val="eeb6ed"/>
              </a:gs>
              <a:gs pos="50000">
                <a:srgbClr val="ffffff"/>
              </a:gs>
              <a:gs pos="100000">
                <a:srgbClr val="eeb6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66ff"/>
                </a:solidFill>
                <a:latin typeface="Arial"/>
              </a:rPr>
              <a:t>دكاننا متنوع وفيه بضائع مختلفة و يتألف من ثلاثة أقسا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276640"/>
            <a:ext cx="5545080" cy="2016000"/>
          </a:xfrm>
          <a:custGeom>
            <a:avLst/>
            <a:gdLst>
              <a:gd name="textAreaLeft" fmla="*/ 1265760 w 5545080"/>
              <a:gd name="textAreaRight" fmla="*/ 4279320 w 55450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2e484"/>
              </a:gs>
              <a:gs pos="50000">
                <a:srgbClr val="ffffff"/>
              </a:gs>
              <a:gs pos="100000">
                <a:srgbClr val="92e48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rial"/>
              </a:rPr>
              <a:t>قسم الألعاب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4464000" cy="2016360"/>
          </a:xfrm>
          <a:custGeom>
            <a:avLst/>
            <a:gdLst>
              <a:gd name="textAreaLeft" fmla="*/ 1018800 w 4464000"/>
              <a:gd name="textAreaRight" fmla="*/ 3445200 w 446400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ff"/>
                </a:solidFill>
                <a:latin typeface="Arial"/>
              </a:rPr>
              <a:t>قسم الأدوات المدرس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508640"/>
            <a:ext cx="4067280" cy="2016000"/>
          </a:xfrm>
          <a:custGeom>
            <a:avLst/>
            <a:gdLst>
              <a:gd name="textAreaLeft" fmla="*/ 928440 w 4067280"/>
              <a:gd name="textAreaRight" fmla="*/ 3138840 w 40672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cc"/>
                </a:solidFill>
                <a:latin typeface="Arial"/>
              </a:rPr>
              <a:t>قسم النباتا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32000" y="1197000"/>
            <a:ext cx="32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لعا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6080"/>
            <a:ext cx="8353440" cy="1079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8136000" cy="1295640"/>
          </a:xfrm>
          <a:custGeom>
            <a:avLst/>
            <a:gdLst>
              <a:gd name="textAreaLeft" fmla="*/ 83880 w 8136000"/>
              <a:gd name="textAreaRight" fmla="*/ 8052120 w 81360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135606" h="21600">
                <a:moveTo>
                  <a:pt x="0" y="0"/>
                </a:moveTo>
                <a:lnTo>
                  <a:pt x="135606" y="0"/>
                </a:lnTo>
                <a:lnTo>
                  <a:pt x="135606" y="21600"/>
                </a:lnTo>
                <a:lnTo>
                  <a:pt x="0" y="21600"/>
                </a:lnTo>
                <a:close/>
              </a:path>
              <a:path fill="lightenLess" w="135606" h="21600">
                <a:moveTo>
                  <a:pt x="0" y="0"/>
                </a:moveTo>
                <a:lnTo>
                  <a:pt x="135606" y="0"/>
                </a:lnTo>
                <a:lnTo>
                  <a:pt x="134206" y="1400"/>
                </a:lnTo>
                <a:lnTo>
                  <a:pt x="1400" y="1400"/>
                </a:lnTo>
                <a:close/>
              </a:path>
              <a:path fill="darken" w="135606" h="21600">
                <a:moveTo>
                  <a:pt x="135606" y="0"/>
                </a:moveTo>
                <a:lnTo>
                  <a:pt x="135606" y="21600"/>
                </a:lnTo>
                <a:lnTo>
                  <a:pt x="134206" y="20200"/>
                </a:lnTo>
                <a:lnTo>
                  <a:pt x="134206" y="1400"/>
                </a:lnTo>
                <a:close/>
              </a:path>
              <a:path fill="darkenLess" w="135606" h="21600">
                <a:moveTo>
                  <a:pt x="135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06" y="20200"/>
                </a:lnTo>
                <a:close/>
              </a:path>
              <a:path fill="lighten" w="135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2303280" cy="13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08720" y="3141720"/>
            <a:ext cx="1333800" cy="122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11916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2560" y="73080"/>
            <a:ext cx="1728720" cy="97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24360" y="378936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380360" y="357336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380360" y="342900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236000" y="386064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84360" y="3500280"/>
            <a:ext cx="1280880" cy="163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2484360" y="2708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3924360" y="3068640"/>
            <a:ext cx="2303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5651640" y="393372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1979640" y="3789360"/>
            <a:ext cx="1008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2987640" y="3357720"/>
            <a:ext cx="10684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1042920" y="2687760"/>
            <a:ext cx="1944720" cy="131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80360" y="2708280"/>
            <a:ext cx="1079280" cy="504720"/>
          </a:xfrm>
          <a:prstGeom prst="wedgeRectCallout">
            <a:avLst>
              <a:gd name="adj1" fmla="val -617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708280"/>
            <a:ext cx="1224000" cy="504720"/>
          </a:xfrm>
          <a:prstGeom prst="wedgeRectCallout">
            <a:avLst>
              <a:gd name="adj1" fmla="val 453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2421000"/>
            <a:ext cx="1295280" cy="504720"/>
          </a:xfrm>
          <a:prstGeom prst="wedgeRectCallout">
            <a:avLst>
              <a:gd name="adj1" fmla="val 318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276640"/>
            <a:ext cx="1006560" cy="504720"/>
          </a:xfrm>
          <a:prstGeom prst="wedgeRectCallout">
            <a:avLst>
              <a:gd name="adj1" fmla="val -10254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349360"/>
            <a:ext cx="934920" cy="505080"/>
          </a:xfrm>
          <a:prstGeom prst="wedgeRectCallout">
            <a:avLst>
              <a:gd name="adj1" fmla="val -14856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924280"/>
            <a:ext cx="936360" cy="504720"/>
          </a:xfrm>
          <a:prstGeom prst="wedgeRectCallout">
            <a:avLst>
              <a:gd name="adj1" fmla="val -14745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1584360" cy="99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59640" y="340200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2060640"/>
            <a:ext cx="4859280" cy="1509480"/>
          </a:xfrm>
          <a:prstGeom prst="cloudCallout">
            <a:avLst>
              <a:gd name="adj1" fmla="val 19162"/>
              <a:gd name="adj2" fmla="val 81439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السلام عليكم ... كم ثمن هذه اللعبة يا عم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0"/>
            <a:ext cx="2376360" cy="14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1370160" cy="15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89000"/>
            <a:ext cx="4572000" cy="1152720"/>
          </a:xfrm>
          <a:prstGeom prst="cloudCallout">
            <a:avLst>
              <a:gd name="adj1" fmla="val -8782"/>
              <a:gd name="adj2" fmla="val 116527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وعليكم السلام.... ثمن هذه اللعبة (</a:t>
            </a:r>
            <a:r>
              <a:rPr b="1" lang="ar-JO" sz="2800" spc="-1" strike="noStrike">
                <a:solidFill>
                  <a:srgbClr val="0000cc"/>
                </a:solidFill>
                <a:latin typeface="Arial"/>
              </a:rPr>
              <a:t>421</a:t>
            </a: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 ) قرش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6003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40464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58920" y="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1743120" cy="14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050920" y="281160"/>
            <a:ext cx="1660680" cy="120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1042920" cy="15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0" y="1773360"/>
            <a:ext cx="9144000" cy="41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16720" y="256536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76280"/>
            <a:ext cx="3851280" cy="2301840"/>
          </a:xfrm>
          <a:prstGeom prst="cloudCallout">
            <a:avLst>
              <a:gd name="adj1" fmla="val 11087"/>
              <a:gd name="adj2" fmla="val 70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معي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 دنانير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،  تفضل يا 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04640"/>
            <a:ext cx="4537080" cy="2589480"/>
          </a:xfrm>
          <a:prstGeom prst="cloudCallout">
            <a:avLst>
              <a:gd name="adj1" fmla="val -13750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شكراً وتفضلي البا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86652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6003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79640" y="0"/>
            <a:ext cx="6121440" cy="259236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1440000" cy="1022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08720" y="2492280"/>
            <a:ext cx="1366920" cy="1584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76720" y="620640"/>
            <a:ext cx="324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نباتات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107640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2276640"/>
            <a:ext cx="183528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403280" y="2924280"/>
            <a:ext cx="2160720" cy="114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5300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وجعلنا من الماء كل شيء حي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0" y="4076640"/>
            <a:ext cx="9144000" cy="411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308720" y="1844640"/>
            <a:ext cx="1079640" cy="504720"/>
          </a:xfrm>
          <a:prstGeom prst="wedgeRectCallout">
            <a:avLst>
              <a:gd name="adj1" fmla="val 852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276640"/>
            <a:ext cx="1081080" cy="504720"/>
          </a:xfrm>
          <a:prstGeom prst="wedgeRectCallout">
            <a:avLst>
              <a:gd name="adj1" fmla="val 8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349360"/>
            <a:ext cx="1008000" cy="50508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421000"/>
            <a:ext cx="1008000" cy="50472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2276640"/>
            <a:ext cx="1152720" cy="504720"/>
          </a:xfrm>
          <a:prstGeom prst="wedgeRectCallout">
            <a:avLst>
              <a:gd name="adj1" fmla="val 1115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00280"/>
            <a:ext cx="1187280" cy="504720"/>
          </a:xfrm>
          <a:prstGeom prst="wedgeRectCallout">
            <a:avLst>
              <a:gd name="adj1" fmla="val 12300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14:12Z</dcterms:created>
  <dc:creator>yaser</dc:creator>
  <dc:description/>
  <dc:language>en-US</dc:language>
  <cp:lastModifiedBy>user</cp:lastModifiedBy>
  <dcterms:modified xsi:type="dcterms:W3CDTF">2009-11-10T17:24:17Z</dcterms:modified>
  <cp:revision>21</cp:revision>
  <dc:subject/>
  <dc:title>الشريحة 1</dc:title>
</cp:coreProperties>
</file>