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757C-2C41-4EF4-9BE3-49AC65E10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B2BE-AEE6-4544-8723-FEAEA8B7D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DBB8-66E9-4FFD-8A4E-7C3AAE7B6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A39E-09BE-454E-A64A-B342C9D3B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7054-A2F9-4A67-817D-3698DB2C9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5914-2298-4D77-85EE-0F8C54D1B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44DA-68F4-450D-9952-94D829BAB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2175-F07A-4137-AB4E-B24E0A07E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EE99-C57A-4CC2-B225-F07C3B5E1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9FB8-D0E1-4528-8F9B-69011030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05EC-6594-4024-BD94-779B01D73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CF3F-7222-4C51-A725-C33E29DB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4CA3E-9A23-4998-8839-07C382D50A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28600" y="0"/>
            <a:ext cx="8153280" cy="586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abic Transparent"/>
              </a:rPr>
              <a:t>جداول الضرب</a:t>
            </a:r>
            <a:endParaRPr b="1" i="1" lang="en-US" sz="4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8600" y="533520"/>
            <a:ext cx="236232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م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إلى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600200" y="685800"/>
            <a:ext cx="2743200" cy="488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*1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*2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*3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*4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*5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*6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*7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*8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*9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*10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724280" y="5335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724280" y="10666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724280" y="16002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724280" y="21337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724280" y="26668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724280" y="32004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724280" y="37339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724280" y="42670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724280" y="47242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648320" y="5257800"/>
            <a:ext cx="34272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400800" y="1295280"/>
            <a:ext cx="198108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mb dir="horz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990720" y="0"/>
            <a:ext cx="7162560" cy="541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لنهاية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410080" y="5638680"/>
            <a:ext cx="31528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إعداد:طارق المنشد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cover dir="d"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0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07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0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066680" y="380880"/>
            <a:ext cx="1828800" cy="601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*1=</a:t>
            </a: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*2=</a:t>
            </a: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*3=</a:t>
            </a: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*4=</a:t>
            </a: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*5=</a:t>
            </a: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*6=</a:t>
            </a: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*7=</a:t>
            </a: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*8=</a:t>
            </a: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*9=</a:t>
            </a: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*10=</a:t>
            </a: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200400" y="457200"/>
            <a:ext cx="1144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200400" y="990720"/>
            <a:ext cx="1144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200400" y="1600200"/>
            <a:ext cx="1144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200400" y="2209680"/>
            <a:ext cx="11448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124080" y="28195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124080" y="35053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2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124080" y="41911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4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124080" y="48769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6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124080" y="54864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8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124080" y="60958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400800" y="990720"/>
            <a:ext cx="152388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</a:t>
            </a:r>
            <a:endParaRPr b="0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dissolv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295280" y="304920"/>
            <a:ext cx="2057400" cy="620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*1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*2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*3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*4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*5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*6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*7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*8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*9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*10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581280" y="228600"/>
            <a:ext cx="1144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581280" y="838080"/>
            <a:ext cx="11448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581280" y="1447920"/>
            <a:ext cx="1144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05320" y="20574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2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505320" y="27432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505320" y="32767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8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505320" y="39625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1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505320" y="46483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4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505320" y="52578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7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505320" y="58672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705720" y="1219320"/>
            <a:ext cx="137160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zoom dir="out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371600" y="457200"/>
            <a:ext cx="2133720" cy="590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*1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*2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*3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*4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*5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*6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*7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*8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*9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*10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886200" y="304920"/>
            <a:ext cx="1144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886200" y="990720"/>
            <a:ext cx="1144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809880" y="16765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2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809880" y="22860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6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809880" y="28954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809880" y="35053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4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809880" y="41148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8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809880" y="4724280"/>
            <a:ext cx="190800" cy="2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2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809880" y="54100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6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09880" y="60199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324480" y="1295280"/>
            <a:ext cx="167652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ver dir="u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1523880" y="457200"/>
            <a:ext cx="2210040" cy="590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*1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*2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*3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*4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*5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*6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*7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*8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*9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*10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038480" y="380880"/>
            <a:ext cx="11448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962520" y="10666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962520" y="16765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962520" y="22860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962520" y="28954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962520" y="35053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962520" y="41148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962520" y="48006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962520" y="54100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962520" y="60958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095880" y="1600200"/>
            <a:ext cx="23623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204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hecker dir="ver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676520" y="380880"/>
            <a:ext cx="2361960" cy="579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*1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*2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*3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*4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*5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*6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*7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*8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*9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*10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419720" y="228600"/>
            <a:ext cx="11412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267080" y="914400"/>
            <a:ext cx="26676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2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267080" y="14479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8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267080" y="20574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4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267080" y="26668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267080" y="33526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6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267080" y="40384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2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267080" y="45720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8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267080" y="51814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4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267080" y="58672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477120" y="1295280"/>
            <a:ext cx="182880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zoom dir="out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752480" y="457200"/>
            <a:ext cx="2514600" cy="561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*1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*2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*3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*4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*5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*6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*7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*8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*9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*10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48320" y="380880"/>
            <a:ext cx="11412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0" y="9144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4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0" y="16002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1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0" y="21337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8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0" y="28195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0" y="34290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2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0" y="39625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9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0" y="45720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6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0" y="51055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3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0" y="57150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00800" y="1219320"/>
            <a:ext cx="1828800" cy="44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ver dir="r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981080" y="685800"/>
            <a:ext cx="2514600" cy="561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*1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*2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*3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*4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*5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*6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*7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*8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*9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*10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876920" y="609480"/>
            <a:ext cx="11412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800600" y="11430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6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800600" y="17524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4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800600" y="23623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2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800600" y="29718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800600" y="35812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8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00600" y="41911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6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47242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4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800600" y="53341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2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800600" y="60199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553080" y="1371600"/>
            <a:ext cx="167652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ver dir="ld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676520" y="533520"/>
            <a:ext cx="2819160" cy="579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*1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*2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*3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*4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*5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*6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*7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*8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*9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*10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800600" y="380880"/>
            <a:ext cx="11448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724280" y="9907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8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724280" y="16002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7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724280" y="22096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6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724280" y="28954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724280" y="35812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4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724280" y="41148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3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724280" y="48006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2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724280" y="53341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1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724280" y="60199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172200" y="1371600"/>
            <a:ext cx="190512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zoom dir="in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12:34:30Z</dcterms:created>
  <dc:creator>kaap</dc:creator>
  <dc:description/>
  <dc:language>en-US</dc:language>
  <cp:lastModifiedBy>kaap</cp:lastModifiedBy>
  <dcterms:modified xsi:type="dcterms:W3CDTF">2009-01-22T14:15:56Z</dcterms:modified>
  <cp:revision>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Forward To">
    <vt:lpwstr>جداول</vt:lpwstr>
  </property>
</Properties>
</file>