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31.jpeg" ContentType="image/jpeg"/>
  <Override PartName="/ppt/media/image6.wmf" ContentType="image/x-wmf"/>
  <Override PartName="/ppt/media/image29.wmf" ContentType="image/x-wmf"/>
  <Override PartName="/ppt/media/image23.wmf" ContentType="image/x-wmf"/>
  <Override PartName="/ppt/media/image11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Sound4_new.wav" ContentType="audio/x-wav"/>
  <Override PartName="/ppt/media/image16.wmf" ContentType="image/x-wmf"/>
  <Override PartName="/ppt/media/image1.jpeg" ContentType="image/jpeg"/>
  <Override PartName="/ppt/media/image15.wmf" ContentType="image/x-wmf"/>
  <Override PartName="/ppt/media/image13.wmf" ContentType="image/x-wmf"/>
  <Override PartName="/ppt/media/image14.wmf" ContentType="image/x-wmf"/>
  <Override PartName="/ppt/media/image17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D9C5-9B8B-4910-97E0-E3E21A20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D21-99E0-4941-957C-1239F29E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BAA-FAE1-4813-825D-449D485F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D9F-F7AC-445B-9DCB-F2EDE42A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701-61AB-43AE-BEB5-4B915CB2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7D2-4DF8-4325-85D8-1F55269D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5B5-1F47-494B-BF65-72C1579C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231-FF8A-45D1-AB6C-1170DFE7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EDE-CF8E-44BE-BDCC-E770DD22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61B3-8CDD-4401-B517-CDDF6B3D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D38-1029-498B-8EE6-64D472E3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347-5158-4D41-92DB-53058E0A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2E3B-1A1A-4FD4-9329-7FF36FDEBF5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4_new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image" Target="../media/image31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2.jpeg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" Target=""/><Relationship Id="rId38" Type="http://schemas.openxmlformats.org/officeDocument/2006/relationships/slide" Target=""/><Relationship Id="rId39" Type="http://schemas.openxmlformats.org/officeDocument/2006/relationships/slide" Target=""/><Relationship Id="rId4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649000">
            <a:off x="1752480" y="2362320"/>
            <a:ext cx="606924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dad1"/>
                </a:soli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الحروف الأبجدي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dad1"/>
              </a:soli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ound4_ne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ذر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1710000" cy="346896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8480" y="5867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28954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رقي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40088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10666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429000" y="228600"/>
            <a:ext cx="52578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زراف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1346040" cy="263052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114800" y="5943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219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سمك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67080" y="762120"/>
            <a:ext cx="4573800" cy="176040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7712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14600" y="2286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شم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89840" y="533520"/>
            <a:ext cx="1874520" cy="190476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181480" y="3733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685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181480" y="4038480"/>
            <a:ext cx="3124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صو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1762200" cy="282600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086600" y="5791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81080" y="2514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52880" y="4191120"/>
            <a:ext cx="31244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ضفد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3686040" cy="346716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495680" y="3733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457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638680" y="4800600"/>
            <a:ext cx="3124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طب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090880" cy="247824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6252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0" y="10666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ظب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943600" y="533520"/>
            <a:ext cx="2327400" cy="266688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72428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971800" y="1295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952880" y="3886200"/>
            <a:ext cx="31244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عي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3886200" cy="232560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05320" y="3962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81080" y="1523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057400" y="609480"/>
            <a:ext cx="10666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أ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أس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809880" cy="305748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3352680"/>
            <a:ext cx="5105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48640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219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غزا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038480" y="457200"/>
            <a:ext cx="4581720" cy="287820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58128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28800" y="1828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في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876480" cy="247824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03848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304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قبع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019920" y="533520"/>
            <a:ext cx="2190600" cy="198756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38680" y="32004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600" y="72396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كل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2481120" cy="346860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1972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533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لبؤ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62520" y="304920"/>
            <a:ext cx="4581360" cy="177804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562720" y="32004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0880" y="685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143000" y="533520"/>
            <a:ext cx="1219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مو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343400" y="533520"/>
            <a:ext cx="4267080" cy="27460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62520" y="4572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00200" y="19051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143000" y="685800"/>
            <a:ext cx="1219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نا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095880" y="685800"/>
            <a:ext cx="2022480" cy="167328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62520" y="41911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95280" y="2438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143000" y="1219320"/>
            <a:ext cx="1219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ه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هلا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334120" y="380880"/>
            <a:ext cx="2565360" cy="248760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05320" y="40384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6000" y="9907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43000" y="533520"/>
            <a:ext cx="1219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ورد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797440" y="304920"/>
            <a:ext cx="2346480" cy="289548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9880" y="5715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362320" y="2438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143000" y="533520"/>
            <a:ext cx="1219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يمام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943600" y="457200"/>
            <a:ext cx="2176560" cy="2008080"/>
          </a:xfrm>
          <a:prstGeom prst="rect">
            <a:avLst/>
          </a:prstGeom>
          <a:ln w="0">
            <a:noFill/>
          </a:ln>
        </p:spPr>
      </p:pic>
      <p:sp>
        <p:nvSpPr>
          <p:cNvPr id="20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010280" y="33526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590920" y="1828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43000" y="838080"/>
            <a:ext cx="2057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بقر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657600" cy="237816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9880" y="5791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95280" y="228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467480" y="228600"/>
            <a:ext cx="1447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حرف أ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696080" y="9907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abff"/>
                </a:solidFill>
                <a:latin typeface="Arial Black"/>
              </a:rPr>
              <a:t>حرف 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abff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620120" y="16765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dd9ff"/>
                </a:solidFill>
                <a:latin typeface="Arial Black"/>
              </a:rPr>
              <a:t>حرف 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dd9ff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772400" y="23623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7bcff"/>
                </a:solidFill>
                <a:latin typeface="Arial Black"/>
              </a:rPr>
              <a:t>حرف ث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7bcff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72400" y="304812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حرف ج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696080" y="37339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81ff"/>
                </a:solidFill>
                <a:latin typeface="Arial Black"/>
              </a:rPr>
              <a:t>حرف 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81ff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105520" y="304920"/>
            <a:ext cx="167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حرف 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562720" y="990720"/>
            <a:ext cx="1218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حرف 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486400" y="1714680"/>
            <a:ext cx="129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fdbfd"/>
                </a:solidFill>
                <a:latin typeface="Arial Black"/>
              </a:rPr>
              <a:t>حرف 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fdbfd"/>
              </a:solidFill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486400" y="23623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a3"/>
                </a:solidFill>
                <a:latin typeface="Arial Black"/>
              </a:rPr>
              <a:t>حرف 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a3"/>
              </a:soli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486400" y="30481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a95"/>
                </a:solidFill>
                <a:latin typeface="Arial Black"/>
              </a:rPr>
              <a:t>حرف 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a95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410080" y="3733920"/>
            <a:ext cx="1295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dd9ff"/>
                </a:solidFill>
                <a:latin typeface="Arial Black"/>
              </a:rPr>
              <a:t>حرف 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dd9ff"/>
              </a:solidFill>
              <a:latin typeface="Arial Black"/>
              <a:ea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895480" y="3049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حرف 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429000" y="9907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cdce8"/>
                </a:solidFill>
                <a:latin typeface="Arial Black"/>
              </a:rPr>
              <a:t>حرف 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cdce8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352680" y="16765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حرف 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352680" y="23623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dad1"/>
                </a:solidFill>
                <a:latin typeface="Arial Black"/>
              </a:rPr>
              <a:t>حرف 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dad1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76720" y="3086280"/>
            <a:ext cx="129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Arial Black"/>
              </a:rPr>
              <a:t>حرف 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76720" y="3772080"/>
            <a:ext cx="1295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حرف 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3049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e5"/>
                </a:solidFill>
                <a:latin typeface="Arial Black"/>
              </a:rPr>
              <a:t>حرف 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e5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0288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حرف 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6765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dffeb"/>
                </a:solidFill>
                <a:latin typeface="Arial Black"/>
              </a:rPr>
              <a:t>حرف 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dffeb"/>
              </a:solidFill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23623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حرف 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62120" y="3048120"/>
            <a:ext cx="167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حرف 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37339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ae8ba"/>
                </a:solidFill>
                <a:latin typeface="Arial Black"/>
              </a:rPr>
              <a:t>حرف 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ae8ba"/>
              </a:solidFill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086600" y="457200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fafff"/>
                </a:solidFill>
                <a:latin typeface="Arial Black"/>
              </a:rPr>
              <a:t>حرف 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fa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52880" y="521964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9afff"/>
                </a:solidFill>
                <a:latin typeface="Arial Black"/>
              </a:rPr>
              <a:t>حرف ه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9afff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743200" y="4724280"/>
            <a:ext cx="1676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e5"/>
                </a:solidFill>
                <a:latin typeface="Arial Black"/>
              </a:rPr>
              <a:t>حرف 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e5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28600" y="5410080"/>
            <a:ext cx="1676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حرف 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0"/>
            <a:ext cx="9144000" cy="4419720"/>
            <a:chOff x="0" y="0"/>
            <a:chExt cx="9144000" cy="4419720"/>
          </a:xfrm>
        </p:grpSpPr>
        <p:sp>
          <p:nvSpPr>
            <p:cNvPr id="240" name=""/>
            <p:cNvSpPr/>
            <p:nvPr/>
          </p:nvSpPr>
          <p:spPr>
            <a:xfrm flipH="1">
              <a:off x="0" y="990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0" y="16765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0" y="2362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0" y="37339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0" y="4419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10280" y="0"/>
              <a:ext cx="0" cy="441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24280" y="0"/>
              <a:ext cx="0" cy="441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66880" y="0"/>
              <a:ext cx="0" cy="441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>
            <a:hlinkClick r:id="rId12" action="ppaction://hlinksldjump"/>
          </p:cNvPr>
          <p:cNvSpPr/>
          <p:nvPr/>
        </p:nvSpPr>
        <p:spPr>
          <a:xfrm>
            <a:off x="7010280" y="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13" action="ppaction://hlinksldjump"/>
          </p:cNvPr>
          <p:cNvSpPr/>
          <p:nvPr/>
        </p:nvSpPr>
        <p:spPr>
          <a:xfrm>
            <a:off x="7010280" y="9907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14" action="ppaction://hlinksldjump"/>
          </p:cNvPr>
          <p:cNvSpPr/>
          <p:nvPr/>
        </p:nvSpPr>
        <p:spPr>
          <a:xfrm>
            <a:off x="7010280" y="16765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15" action="ppaction://hlinksldjump"/>
          </p:cNvPr>
          <p:cNvSpPr/>
          <p:nvPr/>
        </p:nvSpPr>
        <p:spPr>
          <a:xfrm>
            <a:off x="7010280" y="23623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16" action="ppaction://hlinksldjump"/>
          </p:cNvPr>
          <p:cNvSpPr/>
          <p:nvPr/>
        </p:nvSpPr>
        <p:spPr>
          <a:xfrm>
            <a:off x="701028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7" action="ppaction://hlinksldjump"/>
          </p:cNvPr>
          <p:cNvSpPr/>
          <p:nvPr/>
        </p:nvSpPr>
        <p:spPr>
          <a:xfrm>
            <a:off x="7010280" y="37339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8" action="ppaction://hlinksldjump"/>
          </p:cNvPr>
          <p:cNvSpPr/>
          <p:nvPr/>
        </p:nvSpPr>
        <p:spPr>
          <a:xfrm>
            <a:off x="4724280" y="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19" action="ppaction://hlinksldjump"/>
          </p:cNvPr>
          <p:cNvSpPr/>
          <p:nvPr/>
        </p:nvSpPr>
        <p:spPr>
          <a:xfrm>
            <a:off x="4724280" y="9907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0" action="ppaction://hlinksldjump"/>
          </p:cNvPr>
          <p:cNvSpPr/>
          <p:nvPr/>
        </p:nvSpPr>
        <p:spPr>
          <a:xfrm>
            <a:off x="4724280" y="16765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21" action="ppaction://hlinksldjump"/>
          </p:cNvPr>
          <p:cNvSpPr/>
          <p:nvPr/>
        </p:nvSpPr>
        <p:spPr>
          <a:xfrm>
            <a:off x="4724280" y="23623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22" action="ppaction://hlinksldjump"/>
          </p:cNvPr>
          <p:cNvSpPr/>
          <p:nvPr/>
        </p:nvSpPr>
        <p:spPr>
          <a:xfrm>
            <a:off x="472428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23" action="ppaction://hlinksldjump"/>
          </p:cNvPr>
          <p:cNvSpPr/>
          <p:nvPr/>
        </p:nvSpPr>
        <p:spPr>
          <a:xfrm>
            <a:off x="4724280" y="37339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24" action="ppaction://hlinksldjump"/>
          </p:cNvPr>
          <p:cNvSpPr/>
          <p:nvPr/>
        </p:nvSpPr>
        <p:spPr>
          <a:xfrm>
            <a:off x="2666880" y="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25" action="ppaction://hlinksldjump"/>
          </p:cNvPr>
          <p:cNvSpPr/>
          <p:nvPr/>
        </p:nvSpPr>
        <p:spPr>
          <a:xfrm>
            <a:off x="2666880" y="9907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26" action="ppaction://hlinksldjump"/>
          </p:cNvPr>
          <p:cNvSpPr/>
          <p:nvPr/>
        </p:nvSpPr>
        <p:spPr>
          <a:xfrm>
            <a:off x="2666880" y="16765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27" action="ppaction://hlinksldjump"/>
          </p:cNvPr>
          <p:cNvSpPr/>
          <p:nvPr/>
        </p:nvSpPr>
        <p:spPr>
          <a:xfrm>
            <a:off x="2666880" y="23623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28" action="ppaction://hlinksldjump"/>
          </p:cNvPr>
          <p:cNvSpPr/>
          <p:nvPr/>
        </p:nvSpPr>
        <p:spPr>
          <a:xfrm>
            <a:off x="266688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29" action="ppaction://hlinksldjump"/>
          </p:cNvPr>
          <p:cNvSpPr/>
          <p:nvPr/>
        </p:nvSpPr>
        <p:spPr>
          <a:xfrm>
            <a:off x="2666880" y="37339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30" action="ppaction://hlinksldjump"/>
          </p:cNvPr>
          <p:cNvSpPr/>
          <p:nvPr/>
        </p:nvSpPr>
        <p:spPr>
          <a:xfrm>
            <a:off x="76320" y="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31" action="ppaction://hlinksldjump"/>
          </p:cNvPr>
          <p:cNvSpPr/>
          <p:nvPr/>
        </p:nvSpPr>
        <p:spPr>
          <a:xfrm>
            <a:off x="76320" y="9907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32" action="ppaction://hlinksldjump"/>
          </p:cNvPr>
          <p:cNvSpPr/>
          <p:nvPr/>
        </p:nvSpPr>
        <p:spPr>
          <a:xfrm>
            <a:off x="76320" y="16765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33" action="ppaction://hlinksldjump"/>
          </p:cNvPr>
          <p:cNvSpPr/>
          <p:nvPr/>
        </p:nvSpPr>
        <p:spPr>
          <a:xfrm>
            <a:off x="76320" y="23623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34" action="ppaction://hlinksldjump"/>
          </p:cNvPr>
          <p:cNvSpPr/>
          <p:nvPr/>
        </p:nvSpPr>
        <p:spPr>
          <a:xfrm>
            <a:off x="76320" y="30481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35" action="ppaction://hlinksldjump"/>
          </p:cNvPr>
          <p:cNvSpPr/>
          <p:nvPr/>
        </p:nvSpPr>
        <p:spPr>
          <a:xfrm>
            <a:off x="76320" y="37339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36" action="ppaction://hlinksldjump"/>
          </p:cNvPr>
          <p:cNvSpPr/>
          <p:nvPr/>
        </p:nvSpPr>
        <p:spPr>
          <a:xfrm>
            <a:off x="228600" y="4952880"/>
            <a:ext cx="304920" cy="38124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37" action="ppaction://hlinksldjump"/>
          </p:cNvPr>
          <p:cNvSpPr/>
          <p:nvPr/>
        </p:nvSpPr>
        <p:spPr>
          <a:xfrm>
            <a:off x="2438280" y="457200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38" action="ppaction://hlinksldjump"/>
          </p:cNvPr>
          <p:cNvSpPr/>
          <p:nvPr/>
        </p:nvSpPr>
        <p:spPr>
          <a:xfrm>
            <a:off x="5105520" y="4724280"/>
            <a:ext cx="304560" cy="38124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39" action="ppaction://hlinksldjump"/>
          </p:cNvPr>
          <p:cNvSpPr/>
          <p:nvPr/>
        </p:nvSpPr>
        <p:spPr>
          <a:xfrm>
            <a:off x="8458200" y="525780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6248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33"/>
                </a:solidFill>
                <a:latin typeface="Times New Roman"/>
              </a:rPr>
              <a:t>للتعرف على صوت وشكل الحرف اضغطوا على الوجه الضاحك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تو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62720" y="304920"/>
            <a:ext cx="2636640" cy="278280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5715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228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ث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ثو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581280" cy="32144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33920" y="4648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362320" y="380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ج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جم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62720" y="457200"/>
            <a:ext cx="2779560" cy="278280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93432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90920" y="1295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حو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191120" y="380880"/>
            <a:ext cx="4605120" cy="2463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8120" y="3733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05120" y="1371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خو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715000" y="304920"/>
            <a:ext cx="2868480" cy="245088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24080" y="3962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1676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د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191120" y="457200"/>
            <a:ext cx="4556160" cy="253368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181480" y="31240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52280" y="533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06:52:50Z</dcterms:created>
  <dc:creator>Computer</dc:creator>
  <dc:description/>
  <dc:language>en-US</dc:language>
  <cp:lastModifiedBy>user</cp:lastModifiedBy>
  <dcterms:modified xsi:type="dcterms:W3CDTF">2009-11-07T15:44:05Z</dcterms:modified>
  <cp:revision>59</cp:revision>
  <dc:subject/>
  <dc:title>Slide 1</dc:title>
</cp:coreProperties>
</file>