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8.wmf" ContentType="image/x-wmf"/>
  <Override PartName="/ppt/media/image5.wmf" ContentType="image/x-wmf"/>
  <Override PartName="/ppt/media/image10.wmf" ContentType="image/x-wmf"/>
  <Override PartName="/ppt/media/image31.jpeg" ContentType="image/jpeg"/>
  <Override PartName="/ppt/media/image6.wmf" ContentType="image/x-wmf"/>
  <Override PartName="/ppt/media/image29.wmf" ContentType="image/x-wmf"/>
  <Override PartName="/ppt/media/image23.wmf" ContentType="image/x-wmf"/>
  <Override PartName="/ppt/media/image11.jpeg" ContentType="image/jpeg"/>
  <Override PartName="/ppt/media/image3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Sound4_new.wav" ContentType="audio/x-wav"/>
  <Override PartName="/ppt/media/image16.wmf" ContentType="image/x-wmf"/>
  <Override PartName="/ppt/media/image1.jpeg" ContentType="image/jpeg"/>
  <Override PartName="/ppt/media/image15.wmf" ContentType="image/x-wmf"/>
  <Override PartName="/ppt/media/image13.wmf" ContentType="image/x-wmf"/>
  <Override PartName="/ppt/media/image14.wmf" ContentType="image/x-wmf"/>
  <Override PartName="/ppt/media/image17.wmf" ContentType="image/x-wmf"/>
  <Override PartName="/ppt/media/image18.wmf" ContentType="image/x-wmf"/>
  <Override PartName="/ppt/media/image32.jpeg" ContentType="image/jpeg"/>
  <Override PartName="/ppt/media/image2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5CB6-3BFB-4350-A28F-3F3AC909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BA0F-4F4B-4261-8189-5887D779E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9FF3-D8F0-4957-9834-864190F4A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D9D7-7545-4FAB-8831-96525496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64FA-7B71-4FFB-98FD-9995F3CF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569-3CA2-4E45-8AD8-EA683807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2D6-E667-4405-9429-D35DC043C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A035-A53F-4B81-B5DB-A53B850CA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50D7-9912-46ED-8150-36B1BA7D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6308-F605-4EC2-A6FE-A589CBAF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B80-C1E8-4606-88AC-AF278AD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715-528B-44A8-BAC7-008985EE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8960-FAA6-4890-8608-63349D532916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Sound4_new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wmf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2.jpeg"/><Relationship Id="rId11" Type="http://schemas.openxmlformats.org/officeDocument/2006/relationships/image" Target="../media/image32.jpeg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" Target=""/><Relationship Id="rId37" Type="http://schemas.openxmlformats.org/officeDocument/2006/relationships/slide" Target=""/><Relationship Id="rId38" Type="http://schemas.openxmlformats.org/officeDocument/2006/relationships/slide" Target=""/><Relationship Id="rId39" Type="http://schemas.openxmlformats.org/officeDocument/2006/relationships/slide" Target=""/><Relationship Id="rId40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" Target="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649000">
            <a:off x="1752480" y="2362320"/>
            <a:ext cx="606924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effectLst>
                  <a:outerShdw dist="107932" dir="13500000" blurRad="0" rotWithShape="0">
                    <a:srgbClr val="c0c0c0">
                      <a:alpha val="50000"/>
                    </a:srgbClr>
                  </a:outerShdw>
                </a:effectLst>
                <a:latin typeface="Arial Black"/>
              </a:rPr>
              <a:t>الحروف الأبجدية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dad1"/>
              </a:solidFill>
              <a:effectLst>
                <a:outerShdw dist="107932" dir="13500000" blurRad="0" rotWithShape="0">
                  <a:srgbClr val="c0c0c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ound4_ne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ذ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638680" y="380880"/>
            <a:ext cx="1710000" cy="346896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8480" y="5867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09480" y="2895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رقي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4008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3352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3429000" y="228600"/>
            <a:ext cx="5257800" cy="320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زراف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0" y="457200"/>
            <a:ext cx="1346040" cy="2630520"/>
          </a:xfrm>
          <a:prstGeom prst="rect">
            <a:avLst/>
          </a:prstGeom>
          <a:ln w="0">
            <a:noFill/>
          </a:ln>
        </p:spPr>
      </p:pic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114800" y="5943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سمك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267080" y="762120"/>
            <a:ext cx="4573800" cy="17604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4771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514600" y="2286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شم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89840" y="533520"/>
            <a:ext cx="1874520" cy="1904760"/>
          </a:xfrm>
          <a:prstGeom prst="rect">
            <a:avLst/>
          </a:prstGeom>
          <a:ln w="0">
            <a:noFill/>
          </a:ln>
        </p:spPr>
      </p:pic>
      <p:sp>
        <p:nvSpPr>
          <p:cNvPr id="11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1814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181480" y="403848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صو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715000" y="609480"/>
            <a:ext cx="1762200" cy="2826000"/>
          </a:xfrm>
          <a:prstGeom prst="rect">
            <a:avLst/>
          </a:prstGeom>
          <a:ln w="0">
            <a:noFill/>
          </a:ln>
        </p:spPr>
      </p:pic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708660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81080" y="2514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952880" y="4191120"/>
            <a:ext cx="3124440" cy="23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ضفد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228600"/>
            <a:ext cx="3686040" cy="346716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49568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457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638680" y="4800600"/>
            <a:ext cx="312444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طب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6324480" y="457200"/>
            <a:ext cx="2090880" cy="24782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9625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86000" y="1066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ظب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5943600" y="533520"/>
            <a:ext cx="2327400" cy="2666880"/>
          </a:xfrm>
          <a:prstGeom prst="rect">
            <a:avLst/>
          </a:prstGeom>
          <a:ln w="0">
            <a:noFill/>
          </a:ln>
        </p:spPr>
      </p:pic>
      <p:sp>
        <p:nvSpPr>
          <p:cNvPr id="14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7242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97180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952880" y="3886200"/>
            <a:ext cx="31244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عي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724280" y="533520"/>
            <a:ext cx="3886200" cy="2325600"/>
          </a:xfrm>
          <a:prstGeom prst="rect">
            <a:avLst/>
          </a:prstGeom>
          <a:ln w="0">
            <a:noFill/>
          </a:ln>
        </p:spPr>
      </p:pic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0532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981080" y="1523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057400" y="609480"/>
            <a:ext cx="106668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أس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809880" cy="3057480"/>
          </a:xfrm>
          <a:prstGeom prst="rect">
            <a:avLst/>
          </a:prstGeom>
          <a:ln w="0">
            <a:noFill/>
          </a:ln>
        </p:spPr>
      </p:pic>
      <p:sp>
        <p:nvSpPr>
          <p:cNvPr id="45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3352680"/>
            <a:ext cx="510552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48640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04920" y="1219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غز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038480" y="457200"/>
            <a:ext cx="4581720" cy="2878200"/>
          </a:xfrm>
          <a:prstGeom prst="rect">
            <a:avLst/>
          </a:prstGeom>
          <a:ln w="0">
            <a:noFill/>
          </a:ln>
        </p:spPr>
      </p:pic>
      <p:sp>
        <p:nvSpPr>
          <p:cNvPr id="15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58128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82880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في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876920" y="457200"/>
            <a:ext cx="3876480" cy="2478240"/>
          </a:xfrm>
          <a:prstGeom prst="rect">
            <a:avLst/>
          </a:prstGeom>
          <a:ln w="0">
            <a:noFill/>
          </a:ln>
        </p:spPr>
      </p:pic>
      <p:sp>
        <p:nvSpPr>
          <p:cNvPr id="16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03848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304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قبع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019920" y="533520"/>
            <a:ext cx="2190600" cy="1987560"/>
          </a:xfrm>
          <a:prstGeom prst="rect">
            <a:avLst/>
          </a:prstGeom>
          <a:ln w="0">
            <a:noFill/>
          </a:ln>
        </p:spPr>
      </p:pic>
      <p:sp>
        <p:nvSpPr>
          <p:cNvPr id="16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3868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28600" y="72396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كل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304920"/>
            <a:ext cx="2481120" cy="3468600"/>
          </a:xfrm>
          <a:prstGeom prst="rect">
            <a:avLst/>
          </a:prstGeom>
          <a:ln w="0">
            <a:noFill/>
          </a:ln>
        </p:spPr>
      </p:pic>
      <p:sp>
        <p:nvSpPr>
          <p:cNvPr id="17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19720" y="3809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143000" y="533520"/>
            <a:ext cx="182880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لبؤ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962520" y="304920"/>
            <a:ext cx="4581360" cy="177804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562720" y="32004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80880" y="685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0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2000"/>
                            </p:stCondLst>
                            <p:childTnLst>
                              <p:par>
                                <p:cTn id="4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مو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4343400" y="533520"/>
            <a:ext cx="4267080" cy="274608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62520" y="4572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600200" y="1905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000"/>
                            </p:stCondLst>
                            <p:childTnLst>
                              <p:par>
                                <p:cTn id="4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1143000" y="685800"/>
            <a:ext cx="12193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نا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6095880" y="685800"/>
            <a:ext cx="2022480" cy="167328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962520" y="41911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129528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0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43000" y="1219320"/>
            <a:ext cx="12193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هلا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5334120" y="380880"/>
            <a:ext cx="2565360" cy="2487600"/>
          </a:xfrm>
          <a:prstGeom prst="rect">
            <a:avLst/>
          </a:prstGeom>
          <a:ln w="0">
            <a:noFill/>
          </a:ln>
        </p:spPr>
      </p:pic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505320" y="40384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2286000" y="9907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000"/>
                            </p:stCondLst>
                            <p:childTnLst>
                              <p:par>
                                <p:cTn id="4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ورد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797440" y="304920"/>
            <a:ext cx="2346480" cy="28954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988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362320" y="2438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0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1143000" y="533520"/>
            <a:ext cx="12193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يمام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5943600" y="457200"/>
            <a:ext cx="2176560" cy="2008080"/>
          </a:xfrm>
          <a:prstGeom prst="rect">
            <a:avLst/>
          </a:prstGeom>
          <a:ln w="0">
            <a:noFill/>
          </a:ln>
        </p:spPr>
      </p:pic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010280" y="33526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590920" y="18288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143000" y="838080"/>
            <a:ext cx="2057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بقر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76920" y="685800"/>
            <a:ext cx="3657600" cy="2378160"/>
          </a:xfrm>
          <a:prstGeom prst="rect">
            <a:avLst/>
          </a:prstGeom>
          <a:ln w="0">
            <a:noFill/>
          </a:ln>
        </p:spPr>
      </p:pic>
      <p:sp>
        <p:nvSpPr>
          <p:cNvPr id="5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809880" y="5791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29528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7467480" y="228600"/>
            <a:ext cx="1447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حرف أ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7696080" y="9907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abff"/>
                </a:solidFill>
                <a:latin typeface="Arial Black"/>
              </a:rPr>
              <a:t>حرف 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abff"/>
              </a:solidFill>
              <a:latin typeface="Arial Black"/>
              <a:ea typeface="Arial Black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620120" y="1676520"/>
            <a:ext cx="1295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772400" y="23623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7bcff"/>
                </a:solidFill>
                <a:latin typeface="Arial Black"/>
              </a:rPr>
              <a:t>حرف 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7bcff"/>
              </a:solidFill>
              <a:latin typeface="Arial Black"/>
              <a:ea typeface="Arial Black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772400" y="3048120"/>
            <a:ext cx="1143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رف 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7696080" y="37339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81ff"/>
                </a:solidFill>
                <a:latin typeface="Arial Black"/>
              </a:rPr>
              <a:t>حرف 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81ff"/>
              </a:solidFill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5105520" y="3049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حرف 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562720" y="990720"/>
            <a:ext cx="12189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486400" y="17146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fdbfd"/>
                </a:solidFill>
                <a:latin typeface="Arial Black"/>
              </a:rPr>
              <a:t>حرف 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fdbfd"/>
              </a:solidFill>
              <a:latin typeface="Arial Black"/>
              <a:ea typeface="Arial Black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48640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a3"/>
                </a:solidFill>
                <a:latin typeface="Arial Black"/>
              </a:rPr>
              <a:t>حرف 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a3"/>
              </a:solidFill>
              <a:latin typeface="Arial Black"/>
              <a:ea typeface="Arial Blac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486400" y="30481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a95"/>
                </a:solidFill>
                <a:latin typeface="Arial Black"/>
              </a:rPr>
              <a:t>حرف ز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ca95"/>
              </a:solidFill>
              <a:latin typeface="Arial Black"/>
              <a:ea typeface="Arial Black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410080" y="3733920"/>
            <a:ext cx="12956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dd9ff"/>
                </a:solidFill>
                <a:latin typeface="Arial Black"/>
              </a:rPr>
              <a:t>حرف س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dd9ff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9548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حرف ش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29000" y="9907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cdce8"/>
                </a:solidFill>
                <a:latin typeface="Arial Black"/>
              </a:rPr>
              <a:t>حرف 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cdce8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352680" y="1676520"/>
            <a:ext cx="12193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حرف 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52680" y="2362320"/>
            <a:ext cx="12193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dad1"/>
                </a:solidFill>
                <a:latin typeface="Arial Black"/>
              </a:rPr>
              <a:t>حرف ط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dad1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76720" y="3086280"/>
            <a:ext cx="129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Arial Black"/>
              </a:rPr>
              <a:t>حرف 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76720" y="3772080"/>
            <a:ext cx="129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حرف 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304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85800" y="102888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latin typeface="Arial Black"/>
              </a:rPr>
              <a:t>حرف ف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16765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dffeb"/>
                </a:solidFill>
                <a:latin typeface="Arial Black"/>
              </a:rPr>
              <a:t>حرف 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dffeb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23623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حرف ك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762120" y="3048120"/>
            <a:ext cx="1676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حرف 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480" y="373392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ae8ba"/>
                </a:solidFill>
                <a:latin typeface="Arial Black"/>
              </a:rPr>
              <a:t>حرف 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bae8ba"/>
              </a:solidFill>
              <a:latin typeface="Arial Black"/>
              <a:ea typeface="Arial Black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7086600" y="457200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fafff"/>
                </a:solidFill>
                <a:latin typeface="Arial Black"/>
              </a:rPr>
              <a:t>حرف 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afa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52880" y="5219640"/>
            <a:ext cx="1676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79afff"/>
                </a:solidFill>
                <a:latin typeface="Arial Black"/>
              </a:rPr>
              <a:t>حرف ه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79afff"/>
              </a:solidFill>
              <a:latin typeface="Arial Black"/>
              <a:ea typeface="Arial Blac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743200" y="47242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e5"/>
                </a:solidFill>
                <a:latin typeface="Arial Black"/>
              </a:rPr>
              <a:t>حرف و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e5"/>
              </a:solidFill>
              <a:latin typeface="Arial Black"/>
              <a:ea typeface="Arial Blac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600" y="5410080"/>
            <a:ext cx="16765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حرف ي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0" y="0"/>
            <a:ext cx="9144000" cy="4419720"/>
            <a:chOff x="0" y="0"/>
            <a:chExt cx="9144000" cy="4419720"/>
          </a:xfrm>
        </p:grpSpPr>
        <p:sp>
          <p:nvSpPr>
            <p:cNvPr id="240" name=""/>
            <p:cNvSpPr/>
            <p:nvPr/>
          </p:nvSpPr>
          <p:spPr>
            <a:xfrm flipH="1">
              <a:off x="0" y="990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0" y="16765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0" y="23623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0" y="37339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0" y="4419720"/>
              <a:ext cx="914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010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7242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66880" y="0"/>
              <a:ext cx="0" cy="441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9" name="">
            <a:hlinkClick r:id="rId12" action="ppaction://hlinksldjump"/>
          </p:cNvPr>
          <p:cNvSpPr/>
          <p:nvPr/>
        </p:nvSpPr>
        <p:spPr>
          <a:xfrm>
            <a:off x="7010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>
            <a:hlinkClick r:id="rId13" action="ppaction://hlinksldjump"/>
          </p:cNvPr>
          <p:cNvSpPr/>
          <p:nvPr/>
        </p:nvSpPr>
        <p:spPr>
          <a:xfrm>
            <a:off x="7010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>
            <a:hlinkClick r:id="rId14" action="ppaction://hlinksldjump"/>
          </p:cNvPr>
          <p:cNvSpPr/>
          <p:nvPr/>
        </p:nvSpPr>
        <p:spPr>
          <a:xfrm>
            <a:off x="7010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15" action="ppaction://hlinksldjump"/>
          </p:cNvPr>
          <p:cNvSpPr/>
          <p:nvPr/>
        </p:nvSpPr>
        <p:spPr>
          <a:xfrm>
            <a:off x="7010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16" action="ppaction://hlinksldjump"/>
          </p:cNvPr>
          <p:cNvSpPr/>
          <p:nvPr/>
        </p:nvSpPr>
        <p:spPr>
          <a:xfrm>
            <a:off x="7010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>
            <a:hlinkClick r:id="rId17" action="ppaction://hlinksldjump"/>
          </p:cNvPr>
          <p:cNvSpPr/>
          <p:nvPr/>
        </p:nvSpPr>
        <p:spPr>
          <a:xfrm>
            <a:off x="7010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>
            <a:hlinkClick r:id="rId18" action="ppaction://hlinksldjump"/>
          </p:cNvPr>
          <p:cNvSpPr/>
          <p:nvPr/>
        </p:nvSpPr>
        <p:spPr>
          <a:xfrm>
            <a:off x="47242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rId19" action="ppaction://hlinksldjump"/>
          </p:cNvPr>
          <p:cNvSpPr/>
          <p:nvPr/>
        </p:nvSpPr>
        <p:spPr>
          <a:xfrm>
            <a:off x="47242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>
            <a:hlinkClick r:id="rId20" action="ppaction://hlinksldjump"/>
          </p:cNvPr>
          <p:cNvSpPr/>
          <p:nvPr/>
        </p:nvSpPr>
        <p:spPr>
          <a:xfrm>
            <a:off x="47242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rId21" action="ppaction://hlinksldjump"/>
          </p:cNvPr>
          <p:cNvSpPr/>
          <p:nvPr/>
        </p:nvSpPr>
        <p:spPr>
          <a:xfrm>
            <a:off x="47242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22" action="ppaction://hlinksldjump"/>
          </p:cNvPr>
          <p:cNvSpPr/>
          <p:nvPr/>
        </p:nvSpPr>
        <p:spPr>
          <a:xfrm>
            <a:off x="47242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23" action="ppaction://hlinksldjump"/>
          </p:cNvPr>
          <p:cNvSpPr/>
          <p:nvPr/>
        </p:nvSpPr>
        <p:spPr>
          <a:xfrm>
            <a:off x="47242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rId24" action="ppaction://hlinksldjump"/>
          </p:cNvPr>
          <p:cNvSpPr/>
          <p:nvPr/>
        </p:nvSpPr>
        <p:spPr>
          <a:xfrm>
            <a:off x="2666880" y="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25" action="ppaction://hlinksldjump"/>
          </p:cNvPr>
          <p:cNvSpPr/>
          <p:nvPr/>
        </p:nvSpPr>
        <p:spPr>
          <a:xfrm>
            <a:off x="2666880" y="9907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26" action="ppaction://hlinksldjump"/>
          </p:cNvPr>
          <p:cNvSpPr/>
          <p:nvPr/>
        </p:nvSpPr>
        <p:spPr>
          <a:xfrm>
            <a:off x="2666880" y="16765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27" action="ppaction://hlinksldjump"/>
          </p:cNvPr>
          <p:cNvSpPr/>
          <p:nvPr/>
        </p:nvSpPr>
        <p:spPr>
          <a:xfrm>
            <a:off x="2666880" y="23623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rId28" action="ppaction://hlinksldjump"/>
          </p:cNvPr>
          <p:cNvSpPr/>
          <p:nvPr/>
        </p:nvSpPr>
        <p:spPr>
          <a:xfrm>
            <a:off x="2666880" y="30481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>
            <a:hlinkClick r:id="rId29" action="ppaction://hlinksldjump"/>
          </p:cNvPr>
          <p:cNvSpPr/>
          <p:nvPr/>
        </p:nvSpPr>
        <p:spPr>
          <a:xfrm>
            <a:off x="2666880" y="373392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rId30" action="ppaction://hlinksldjump"/>
          </p:cNvPr>
          <p:cNvSpPr/>
          <p:nvPr/>
        </p:nvSpPr>
        <p:spPr>
          <a:xfrm>
            <a:off x="76320" y="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rId31" action="ppaction://hlinksldjump"/>
          </p:cNvPr>
          <p:cNvSpPr/>
          <p:nvPr/>
        </p:nvSpPr>
        <p:spPr>
          <a:xfrm>
            <a:off x="76320" y="9907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rId32" action="ppaction://hlinksldjump"/>
          </p:cNvPr>
          <p:cNvSpPr/>
          <p:nvPr/>
        </p:nvSpPr>
        <p:spPr>
          <a:xfrm>
            <a:off x="76320" y="16765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33" action="ppaction://hlinksldjump"/>
          </p:cNvPr>
          <p:cNvSpPr/>
          <p:nvPr/>
        </p:nvSpPr>
        <p:spPr>
          <a:xfrm>
            <a:off x="76320" y="23623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34" action="ppaction://hlinksldjump"/>
          </p:cNvPr>
          <p:cNvSpPr/>
          <p:nvPr/>
        </p:nvSpPr>
        <p:spPr>
          <a:xfrm>
            <a:off x="76320" y="30481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rId35" action="ppaction://hlinksldjump"/>
          </p:cNvPr>
          <p:cNvSpPr/>
          <p:nvPr/>
        </p:nvSpPr>
        <p:spPr>
          <a:xfrm>
            <a:off x="76320" y="3733920"/>
            <a:ext cx="30456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36" action="ppaction://hlinksldjump"/>
          </p:cNvPr>
          <p:cNvSpPr/>
          <p:nvPr/>
        </p:nvSpPr>
        <p:spPr>
          <a:xfrm>
            <a:off x="228600" y="4952880"/>
            <a:ext cx="30492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37" action="ppaction://hlinksldjump"/>
          </p:cNvPr>
          <p:cNvSpPr/>
          <p:nvPr/>
        </p:nvSpPr>
        <p:spPr>
          <a:xfrm>
            <a:off x="2438280" y="45720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38" action="ppaction://hlinksldjump"/>
          </p:cNvPr>
          <p:cNvSpPr/>
          <p:nvPr/>
        </p:nvSpPr>
        <p:spPr>
          <a:xfrm>
            <a:off x="5105520" y="4724280"/>
            <a:ext cx="304560" cy="38124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rId39" action="ppaction://hlinksldjump"/>
          </p:cNvPr>
          <p:cNvSpPr/>
          <p:nvPr/>
        </p:nvSpPr>
        <p:spPr>
          <a:xfrm>
            <a:off x="8458200" y="5257800"/>
            <a:ext cx="304920" cy="380880"/>
          </a:xfrm>
          <a:prstGeom prst="smileyFace">
            <a:avLst>
              <a:gd name="adj" fmla="val 9282"/>
            </a:avLst>
          </a:prstGeom>
          <a:solidFill>
            <a:srgbClr val="baf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62485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0033"/>
                </a:solidFill>
                <a:latin typeface="Times New Roman"/>
              </a:rPr>
              <a:t>للتعرف على صوت وشكل الحرف اضغطوا على الوجه الضاحك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ت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62720" y="304920"/>
            <a:ext cx="2636640" cy="278280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8320" y="57150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04920" y="228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ثو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800600" y="304920"/>
            <a:ext cx="3581280" cy="3214440"/>
          </a:xfrm>
          <a:prstGeom prst="rect">
            <a:avLst/>
          </a:prstGeom>
          <a:ln w="0">
            <a:noFill/>
          </a:ln>
        </p:spPr>
      </p:pic>
      <p:sp>
        <p:nvSpPr>
          <p:cNvPr id="64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33920" y="46483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362320" y="3808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جمل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562720" y="457200"/>
            <a:ext cx="2779560" cy="27828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934320" y="38862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590920" y="12952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حوت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191120" y="380880"/>
            <a:ext cx="4605120" cy="2463840"/>
          </a:xfrm>
          <a:prstGeom prst="rect">
            <a:avLst/>
          </a:prstGeom>
          <a:ln w="0">
            <a:noFill/>
          </a:ln>
        </p:spPr>
      </p:pic>
      <p:sp>
        <p:nvSpPr>
          <p:cNvPr id="76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048120" y="37339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905120" y="137160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خوخ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715000" y="304920"/>
            <a:ext cx="2868480" cy="2450880"/>
          </a:xfrm>
          <a:prstGeom prst="rect">
            <a:avLst/>
          </a:prstGeom>
          <a:ln w="0">
            <a:noFill/>
          </a:ln>
        </p:spPr>
      </p:pic>
      <p:sp>
        <p:nvSpPr>
          <p:cNvPr id="82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3124080" y="3962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14600" y="1676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143000" y="762120"/>
            <a:ext cx="1828800" cy="19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952880" y="3429000"/>
            <a:ext cx="312444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8f072"/>
                </a:solidFill>
                <a:latin typeface="Arial Black"/>
              </a:rPr>
              <a:t>دب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d8f072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191120" y="457200"/>
            <a:ext cx="4556160" cy="2533680"/>
          </a:xfrm>
          <a:prstGeom prst="rect">
            <a:avLst/>
          </a:prstGeom>
          <a:ln w="0">
            <a:noFill/>
          </a:ln>
        </p:spPr>
      </p:pic>
      <p:sp>
        <p:nvSpPr>
          <p:cNvPr id="88" name="">
            <a:hlinkClick r:id="rId3" action="ppaction://hlinksldjump"/>
          </p:cNvPr>
          <p:cNvSpPr/>
          <p:nvPr/>
        </p:nvSpPr>
        <p:spPr>
          <a:xfrm>
            <a:off x="1066680" y="5334120"/>
            <a:ext cx="1752840" cy="838080"/>
          </a:xfrm>
          <a:custGeom>
            <a:avLst/>
            <a:gdLst>
              <a:gd name="textAreaLeft" fmla="*/ 54000 w 1752840"/>
              <a:gd name="textAreaRight" fmla="*/ 1698840 w 175284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45166" h="21600">
                <a:moveTo>
                  <a:pt x="0" y="0"/>
                </a:moveTo>
                <a:lnTo>
                  <a:pt x="45166" y="0"/>
                </a:lnTo>
                <a:lnTo>
                  <a:pt x="45166" y="21600"/>
                </a:lnTo>
                <a:lnTo>
                  <a:pt x="0" y="21600"/>
                </a:lnTo>
                <a:close/>
              </a:path>
              <a:path fill="lightenLess" w="45166" h="21600">
                <a:moveTo>
                  <a:pt x="0" y="0"/>
                </a:moveTo>
                <a:lnTo>
                  <a:pt x="45166" y="0"/>
                </a:lnTo>
                <a:lnTo>
                  <a:pt x="43766" y="1400"/>
                </a:lnTo>
                <a:lnTo>
                  <a:pt x="1400" y="1400"/>
                </a:lnTo>
                <a:close/>
              </a:path>
              <a:path fill="darken" w="45166" h="21600">
                <a:moveTo>
                  <a:pt x="45166" y="0"/>
                </a:moveTo>
                <a:lnTo>
                  <a:pt x="45166" y="21600"/>
                </a:lnTo>
                <a:lnTo>
                  <a:pt x="43766" y="20200"/>
                </a:lnTo>
                <a:lnTo>
                  <a:pt x="43766" y="1400"/>
                </a:lnTo>
                <a:close/>
              </a:path>
              <a:path fill="darkenLess" w="45166" h="21600">
                <a:moveTo>
                  <a:pt x="45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766" y="20200"/>
                </a:lnTo>
                <a:close/>
              </a:path>
              <a:path fill="lighten" w="45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166" h="21600">
                <a:moveTo>
                  <a:pt x="15577" y="7493"/>
                </a:moveTo>
                <a:lnTo>
                  <a:pt x="19084" y="7493"/>
                </a:lnTo>
                <a:lnTo>
                  <a:pt x="19084" y="12828"/>
                </a:lnTo>
                <a:cubicBezTo>
                  <a:pt x="19084" y="13751"/>
                  <a:pt x="19885" y="14482"/>
                  <a:pt x="20921" y="14482"/>
                </a:cubicBezTo>
                <a:lnTo>
                  <a:pt x="22583" y="14482"/>
                </a:lnTo>
                <a:cubicBezTo>
                  <a:pt x="23619" y="14482"/>
                  <a:pt x="24420" y="13751"/>
                  <a:pt x="24420" y="12828"/>
                </a:cubicBezTo>
                <a:lnTo>
                  <a:pt x="24420" y="7493"/>
                </a:lnTo>
                <a:lnTo>
                  <a:pt x="22583" y="7493"/>
                </a:lnTo>
                <a:lnTo>
                  <a:pt x="26091" y="3985"/>
                </a:lnTo>
                <a:lnTo>
                  <a:pt x="29764" y="7493"/>
                </a:lnTo>
                <a:lnTo>
                  <a:pt x="27927" y="7493"/>
                </a:lnTo>
                <a:lnTo>
                  <a:pt x="27927" y="12828"/>
                </a:lnTo>
                <a:cubicBezTo>
                  <a:pt x="27927" y="15596"/>
                  <a:pt x="25351" y="18155"/>
                  <a:pt x="22583" y="18155"/>
                </a:cubicBezTo>
                <a:lnTo>
                  <a:pt x="20921" y="18155"/>
                </a:lnTo>
                <a:cubicBezTo>
                  <a:pt x="18153" y="18155"/>
                  <a:pt x="15577" y="15596"/>
                  <a:pt x="15577" y="12828"/>
                </a:cubicBezTo>
                <a:close/>
              </a:path>
            </a:pathLst>
          </a:custGeom>
          <a:solidFill>
            <a:srgbClr val="ffda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181480" y="3124080"/>
            <a:ext cx="1743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52280" y="533520"/>
            <a:ext cx="174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e5ff"/>
                </a:solidFill>
                <a:latin typeface="Arial Black"/>
              </a:rPr>
              <a:t>اضغط هنا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e5ff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06:52:50Z</dcterms:created>
  <dc:creator>Computer</dc:creator>
  <dc:description/>
  <dc:language>en-US</dc:language>
  <cp:lastModifiedBy>user</cp:lastModifiedBy>
  <dcterms:modified xsi:type="dcterms:W3CDTF">2009-11-07T15:44:05Z</dcterms:modified>
  <cp:revision>59</cp:revision>
  <dc:subject/>
  <dc:title>Slide 1</dc:title>
</cp:coreProperties>
</file>