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%D8%B7%D9%84%D9%82%D8%A9%20%D9%86%D8%A7%D8%B1.wav" ContentType="audio/x-wav"/>
  <Override PartName="/ppt/media/%D9%82%D9%86%D8%A8%D9%84%D8%A9.wav" ContentType="audio/x-wav"/>
  <Override PartName="/ppt/media/applause.wav" ContentType="audio/x-wav"/>
  <Override PartName="/ppt/media/000.wav" ContentType="audio/x-wav"/>
  <Override PartName="/ppt/media/555.WAV" ContentType="audio/x-wav"/>
  <Override PartName="/ppt/media/glass.wav" ContentType="audio/x-wav"/>
  <Override PartName="/ppt/media/666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8016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A72-129F-4F67-97A8-D1DB13EC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8680" y="550764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DAD-EB7A-4A8F-8B9E-E4833A05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3616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6E1-4DFC-4E21-97E0-2FF7A963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896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924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868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3896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924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501-93FD-4BC8-A9A5-34CBA6E1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D28-832D-4088-BAA5-34590F24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FFC-F81C-42D4-974B-C1967A01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5FB-2323-41EB-97D4-0813C61A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17A-87B4-4DD1-AE8C-4FB6E405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8680" y="812520"/>
            <a:ext cx="108842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BEA-99CD-4032-B712-D09CD045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E18-9A97-4633-B5A5-2DA528C7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3616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345-1FEE-4C18-9D8E-22EBEE7D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BD0-C035-4BDF-9C5B-C253DBE3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58320" y="833112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5080" y="8331120"/>
            <a:ext cx="4051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5320" y="833112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49FF-5E95-4492-8D68-D35AF616FD6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666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audio" Target="../media/camera.wav"/><Relationship Id="rId4" Type="http://schemas.openxmlformats.org/officeDocument/2006/relationships/audio" Target="../media/&#1591;&#1604;&#1602;&#1577;%20&#1606;&#1575;&#1585;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&#1591;&#1604;&#1602;&#1577;%20&#1606;&#1575;&#1585;.wav"/><Relationship Id="rId4" Type="http://schemas.openxmlformats.org/officeDocument/2006/relationships/audio" Target="../media/&#1602;&#1606;&#1576;&#1604;&#1577;.wav"/><Relationship Id="rId5" Type="http://schemas.openxmlformats.org/officeDocument/2006/relationships/audio" Target="../media/&#1602;&#1606;&#1576;&#1604;&#1577;.wav"/><Relationship Id="rId6" Type="http://schemas.openxmlformats.org/officeDocument/2006/relationships/audio" Target="../media/&#1602;&#1606;&#1576;&#1604;&#1577;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audio" Target="../media/&#1591;&#1604;&#1602;&#1577;%20&#1606;&#1575;&#1585;.wav"/><Relationship Id="rId6" Type="http://schemas.openxmlformats.org/officeDocument/2006/relationships/audio" Target="../media/&#1602;&#1606;&#1576;&#1604;&#1577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&#1591;&#1604;&#1602;&#1577;%20&#1606;&#1575;&#1585;.wav"/><Relationship Id="rId4" Type="http://schemas.openxmlformats.org/officeDocument/2006/relationships/audio" Target="../media/&#1602;&#1606;&#1576;&#1604;&#1577;.wav"/><Relationship Id="rId5" Type="http://schemas.openxmlformats.org/officeDocument/2006/relationships/audio" Target="../media/&#1602;&#1606;&#1576;&#1604;&#1577;.wav"/><Relationship Id="rId6" Type="http://schemas.openxmlformats.org/officeDocument/2006/relationships/audio" Target="../media/&#1602;&#1606;&#1576;&#1604;&#1577;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00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555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audio" Target="../media/&#1591;&#1604;&#1602;&#1577;%20&#1606;&#1575;&#1585;.wav"/><Relationship Id="rId6" Type="http://schemas.openxmlformats.org/officeDocument/2006/relationships/audio" Target="../media/&#1602;&#1606;&#1576;&#1604;&#1577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10944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</a:rPr>
              <a:t>مسابقة جدول الض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295280" y="2895480"/>
            <a:ext cx="304812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8610480" y="3048120"/>
            <a:ext cx="304812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830592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06668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472428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830592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472428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06668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830592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472428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106668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8200" y="152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ان ال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52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درسة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مين الأس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47720" y="8101080"/>
            <a:ext cx="9068040" cy="20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عداد معلم المادة : </a:t>
            </a:r>
            <a:r>
              <a:rPr b="1" lang="ar-JO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مد ياسين</a:t>
            </a:r>
            <a:r>
              <a:rPr b="1" lang="ar-SA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ar-JO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ar-JO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رف كنعان عو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830592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472428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106668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8272440" y="658800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4745160" y="651672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1066680" y="65530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/>
    <p:sndAc>
      <p:stSnd>
        <p:snd r:embed="rId18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9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3505320"/>
            <a:ext cx="10210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0" spc="-1" strike="noStrike">
                <a:solidFill>
                  <a:srgbClr val="3333cc"/>
                </a:solidFill>
                <a:latin typeface="Times New Roman"/>
                <a:cs typeface="Al-Mujahed Classic"/>
              </a:rPr>
              <a:t>الاجابة صحيحة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7162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7696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666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3" name="camera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8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camera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efefe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1040" dir="792084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  <p:sndAc>
      <p:stSnd>
        <p:snd r:embed="rId4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camera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2742480"/>
            <a:ext cx="11049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0" spc="-1" strike="noStrike">
                <a:solidFill>
                  <a:srgbClr val="3333cc"/>
                </a:solidFill>
                <a:latin typeface="Times New Roman"/>
                <a:cs typeface="Mohammad Annoktah"/>
              </a:rPr>
              <a:t>ممتاز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7315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1" name="000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76520" y="2286000"/>
            <a:ext cx="103629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l-Mujahed Al-Anbobi"/>
              </a:rPr>
              <a:t>  </a:t>
            </a:r>
            <a:r>
              <a:rPr b="1" lang="ar-SA" sz="15000" spc="-1" strike="noStrike">
                <a:solidFill>
                  <a:srgbClr val="3333cc"/>
                </a:solidFill>
                <a:latin typeface="Times New Roman"/>
                <a:cs typeface="Al-Mujahed Al-Anbobi"/>
              </a:rPr>
              <a:t>خطأ</a:t>
            </a:r>
            <a:r>
              <a:rPr b="1" lang="ar-SA" sz="9600" spc="-1" strike="noStrike">
                <a:solidFill>
                  <a:srgbClr val="000000"/>
                </a:solidFill>
                <a:latin typeface="Times New Roman"/>
                <a:ea typeface="Al-Mujahed Al-Anbob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Times New Roman"/>
                <a:cs typeface="Al-Mujahed Al-Anbobi"/>
              </a:rPr>
              <a:t>حاول مرة أخر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8001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22860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848720" y="79246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8000"/>
                </a:solidFill>
                <a:latin typeface="Traditional Arabic"/>
              </a:rPr>
              <a:t>عودة</a:t>
            </a:r>
            <a:endParaRPr b="1" lang="en-US" sz="2400" spc="1" strike="noStrike">
              <a:ln w="0">
                <a:noFill/>
              </a:ln>
              <a:solidFill>
                <a:srgbClr val="008000"/>
              </a:solidFill>
              <a:latin typeface="Traditional Arabic"/>
              <a:ea typeface="Traditional Arabic"/>
            </a:endParaRPr>
          </a:p>
        </p:txBody>
      </p:sp>
    </p:spTree>
  </p:cSld>
  <p:transition advTm="2000">
    <p:random/>
    <p:sndAc>
      <p:stSnd>
        <p:snd r:embed="rId1" name="glass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200400"/>
            <a:ext cx="11734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أحسنت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6781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7924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555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4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1T02:02:38Z</dcterms:created>
  <dc:creator>IBRAHIM ABDOH</dc:creator>
  <dc:description/>
  <dc:language>en-US</dc:language>
  <cp:lastModifiedBy>user</cp:lastModifiedBy>
  <dcterms:modified xsi:type="dcterms:W3CDTF">2009-10-10T18:50:12Z</dcterms:modified>
  <cp:revision>1290</cp:revision>
  <dc:subject/>
  <dc:title>لا يوجد عنوان للشريحة</dc:title>
</cp:coreProperties>
</file>