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26A-B1A3-484E-8A6F-94148B8F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FD5-6DD2-4FD1-9000-5F18B8EC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D2C-E007-4FDD-8AC7-EFD36CEC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094-6BDA-49CC-A28C-B59DEA50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B47-0B07-4CB8-8D17-9209EAD5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026-50AE-4427-85D2-36879D64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AD2-0CB9-4D97-B2F3-3F0EF837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8C8-6B0D-4F7A-A7AE-D5C6FF29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4FF-AF75-43E0-93E2-3BE7C5F1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8BD-DF53-48AD-A690-9185F54D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7A8-2DF3-40F7-B4C1-95CCEB52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967-1F8C-43B1-BF2C-D0EA8F5D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42E4-31EF-4F7A-901B-0DA29CDC3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0"/>
            <a:ext cx="81532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جداول الضرب</a:t>
            </a:r>
            <a:endParaRPr b="1" i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533520"/>
            <a:ext cx="2362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إلى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600200" y="685800"/>
            <a:ext cx="2743200" cy="48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1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2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3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4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5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6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7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8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9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10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724280" y="533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24280" y="1066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2428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24280" y="2133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724280" y="2666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724280" y="3200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24280" y="3733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724280" y="4267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724280" y="4724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5257800"/>
            <a:ext cx="342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400800" y="1295280"/>
            <a:ext cx="198108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90720" y="0"/>
            <a:ext cx="71625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نهاية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10080" y="5638680"/>
            <a:ext cx="31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إعداد:طارق المنش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ver dir="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66680" y="380880"/>
            <a:ext cx="182880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1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2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3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4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5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6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7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8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9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10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4572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00400" y="9907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0400" y="16002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0400" y="22096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24080" y="2819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12408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24080" y="4191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24080" y="4876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24080" y="5486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24080" y="6095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990720"/>
            <a:ext cx="15238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304920"/>
            <a:ext cx="2057400" cy="62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81280" y="2286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81280" y="8380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81280" y="14479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05320" y="2057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05320" y="2743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05320" y="3276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05320" y="3962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05320" y="4648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05320" y="5257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05320" y="5867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705720" y="1219320"/>
            <a:ext cx="137160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371600" y="457200"/>
            <a:ext cx="213372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6200" y="3049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86200" y="9907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9880" y="1676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9880" y="2286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988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988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988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9880" y="4724280"/>
            <a:ext cx="1908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9880" y="5410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988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24480" y="1295280"/>
            <a:ext cx="16765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523880" y="457200"/>
            <a:ext cx="221004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038480" y="3808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62520" y="1066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62520" y="1676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62520" y="2286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6252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6252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6252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62520" y="48006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62520" y="5410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62520" y="6095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5880" y="1600200"/>
            <a:ext cx="2362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0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380880"/>
            <a:ext cx="236196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228600"/>
            <a:ext cx="114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67080" y="914400"/>
            <a:ext cx="2667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67080" y="1447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67080" y="2057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67080" y="2666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67080" y="3352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67080" y="4038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67080" y="4572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67080" y="5181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67080" y="5867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77120" y="1295280"/>
            <a:ext cx="1828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52480" y="457200"/>
            <a:ext cx="2514600" cy="56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3808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0" y="914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0" y="2133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0" y="2819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0" y="3429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0" y="3962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0" y="4572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0" y="5105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0" y="5715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00800" y="1219320"/>
            <a:ext cx="1828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981080" y="685800"/>
            <a:ext cx="2514600" cy="56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76920" y="6094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00600" y="1143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00600" y="1752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800600" y="2362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00600" y="2971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00600" y="3581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00600" y="4191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4724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00600" y="5334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0060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553080" y="1371600"/>
            <a:ext cx="1676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676520" y="533520"/>
            <a:ext cx="281916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1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2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3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4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5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6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7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8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9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10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00600" y="3808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24280" y="990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2428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724280" y="2209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2428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24280" y="3581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2428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24280" y="48006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24280" y="5334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2428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72200" y="1371600"/>
            <a:ext cx="1905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34:30Z</dcterms:created>
  <dc:creator>kaap</dc:creator>
  <dc:description/>
  <dc:language>en-US</dc:language>
  <cp:lastModifiedBy>kaap</cp:lastModifiedBy>
  <dcterms:modified xsi:type="dcterms:W3CDTF">2009-01-22T14:15:56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orward To">
    <vt:lpwstr>جداول</vt:lpwstr>
  </property>
</Properties>
</file>