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9.wmf" ContentType="image/x-wmf"/>
  <Override PartName="/ppt/media/image7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CCABE-9372-4735-8D78-AA7C2052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9FDD0-DB85-466D-B5BD-F9F30490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BA8E0-1E33-4286-A057-25729EE8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4F904-2C07-4E1B-8A2F-EFAC1282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A067-68A2-4717-A92F-EA855103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653A-0371-40AA-B5AA-4C84BC81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A0FF-39C3-4BAB-8EFB-17DCED58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33C0-67CC-4B13-B6B6-E928A796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4F5F-BA28-4164-A9C1-29C05B17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14A5-F4A3-4184-92CC-78C85E61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A723-6FDE-4F88-BC9B-D2415DA8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6926B-1F3B-4AA4-A17D-E0FBDA23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F230-011E-47FC-ABFA-22FF5686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645A-F3AF-457C-8707-06815BA9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784F-10F2-4B1D-80AA-B11089A4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DC8C-A3B9-4009-947F-A7DF22A4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7C3D-33F2-485D-B6F0-8056E8CC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14587-AAAF-4D2D-A9EA-DF559E9E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33DCE-6C02-45B9-BB12-E84913F0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4190F-6791-44E9-9B03-53ED430C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C64E1-0848-4ABF-BE9D-CF4A7B9F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A35CC-277A-4E73-A678-8E785A07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1B91C-8327-49D5-A319-B5E382FB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409D4-AAD8-4300-BB5C-AD29222B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C123-5DC0-4FB6-9606-126119C12C5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350A-6F34-4645-98E8-2D94A335C0C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208080" y="2405160"/>
            <a:ext cx="992196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0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اسماء الموصولة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3280" y="1341360"/>
            <a:ext cx="6120000" cy="16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700" spc="-1" strike="noStrike">
                <a:solidFill>
                  <a:srgbClr val="cc3399"/>
                </a:solidFill>
                <a:latin typeface="Tahoma"/>
                <a:cs typeface="Traditional Arabic"/>
              </a:rPr>
              <a:t>انتهى الدرس</a:t>
            </a:r>
            <a:br>
              <a:rPr sz="9700"/>
            </a:br>
            <a:endParaRPr b="0" lang="en-US" sz="97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77" name="Picture 6" descr="147859654"/>
          <p:cNvPicPr/>
          <p:nvPr/>
        </p:nvPicPr>
        <p:blipFill>
          <a:blip r:embed="rId1"/>
          <a:stretch/>
        </p:blipFill>
        <p:spPr>
          <a:xfrm>
            <a:off x="2771640" y="3213000"/>
            <a:ext cx="39960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26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أسماء الموصولة</a:t>
            </a:r>
            <a:br>
              <a:rPr sz="6600"/>
            </a:br>
            <a:r>
              <a:rPr b="1" lang="ar-SA" sz="6600" spc="-1" strike="noStrike">
                <a:solidFill>
                  <a:srgbClr val="ff3399"/>
                </a:solidFill>
                <a:latin typeface="Tahoma"/>
                <a:cs typeface="Traditional Arabic"/>
              </a:rPr>
              <a:t>مـا هـي ؟ </a:t>
            </a:r>
            <a:endParaRPr b="0" lang="en-US" sz="66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8" name="Picture 8" descr="418arabsvip_com"/>
          <p:cNvPicPr/>
          <p:nvPr/>
        </p:nvPicPr>
        <p:blipFill>
          <a:blip r:embed="rId2"/>
          <a:stretch/>
        </p:blipFill>
        <p:spPr>
          <a:xfrm>
            <a:off x="7075440" y="4975200"/>
            <a:ext cx="2068560" cy="1882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imagesCAVEYGXS"/>
          <p:cNvPicPr/>
          <p:nvPr/>
        </p:nvPicPr>
        <p:blipFill>
          <a:blip r:embed="rId3"/>
          <a:stretch/>
        </p:blipFill>
        <p:spPr>
          <a:xfrm>
            <a:off x="1403280" y="3429000"/>
            <a:ext cx="21002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6920" y="404640"/>
            <a:ext cx="6480360" cy="77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3399"/>
                </a:solidFill>
                <a:latin typeface="Tahoma"/>
                <a:cs typeface="Traditional Arabic"/>
              </a:rPr>
              <a:t>مفهوم الاسم الموصول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أحب أمي التي سهرت من أجلي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ahoma"/>
              </a:rPr>
              <a:t>هل للجملة السابقة معنى تام ؟       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r" rtl="1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726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هل بقيت الجملة تامة المعنى ؟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726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ما الكلمة التي جعلت الجملة غير تامة المعنى ؟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كلمة ( التي) أهي اسم ،أم فعل ،أم حرف؟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726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هل الاسم ( التي ) له معنى ودلالة واضحة بمفرده ؟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624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ahoma"/>
              </a:rPr>
              <a:t>هل يحتاج الاسم ( التي ) إلى وصله بجملة بعده توضح دلالته وتتم معناه ؟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 نعم ، فمعناه مرتبط وموصول بالجملة التي بعده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Oval 4"/>
          <p:cNvSpPr/>
          <p:nvPr/>
        </p:nvSpPr>
        <p:spPr>
          <a:xfrm>
            <a:off x="2771640" y="1844640"/>
            <a:ext cx="4319640" cy="576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54000" tIns="0" bIns="1800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ahoma"/>
              </a:rPr>
              <a:t>أُحِبُّ أم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788000" y="2349360"/>
            <a:ext cx="54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99"/>
                </a:solidFill>
                <a:latin typeface="Tahoma"/>
              </a:rPr>
              <a:t>نعم</a:t>
            </a:r>
            <a:r>
              <a:rPr b="0" lang="ar-SA" sz="18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635280" y="321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ahoma"/>
              </a:rPr>
              <a:t>ل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 rot="10800000">
            <a:off x="6012000" y="2923920"/>
            <a:ext cx="2449440" cy="430200"/>
          </a:xfrm>
          <a:prstGeom prst="flowChartOnlineStorag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أحب أمي الت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908000" y="3716280"/>
            <a:ext cx="8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ahoma"/>
              </a:rPr>
              <a:t>الت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195640" y="4292640"/>
            <a:ext cx="86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Tahoma"/>
              </a:rPr>
              <a:t>اس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332000" y="4797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Tahoma"/>
              </a:rPr>
              <a:t>ل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14" descr="avatar88657_10"/>
          <p:cNvPicPr/>
          <p:nvPr/>
        </p:nvPicPr>
        <p:blipFill>
          <a:blip r:embed="rId3"/>
          <a:stretch/>
        </p:blipFill>
        <p:spPr>
          <a:xfrm>
            <a:off x="826920" y="54936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662472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r" rtl="1"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ahoma"/>
              </a:rPr>
              <a:t> ماذا نسمي الاسم الذي لا يتم معناه إلا بوصله بجملة بعده</a:t>
            </a:r>
            <a:r>
              <a:rPr b="0" lang="ar-SA" sz="3800" spc="-1" strike="noStrike">
                <a:solidFill>
                  <a:srgbClr val="000000"/>
                </a:solidFill>
                <a:latin typeface="Tahoma"/>
              </a:rPr>
              <a:t> ؟</a:t>
            </a:r>
            <a:br>
              <a:rPr sz="3800"/>
            </a:br>
            <a:r>
              <a:rPr b="0" lang="ar-SA" sz="3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187280" y="1266840"/>
            <a:ext cx="4176720" cy="649440"/>
          </a:xfrm>
          <a:prstGeom prst="flowChartOnlineStorag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99"/>
                </a:solidFill>
                <a:latin typeface="Tahoma"/>
              </a:rPr>
              <a:t>سهرت من أجل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7"/>
          <p:cNvSpPr/>
          <p:nvPr/>
        </p:nvSpPr>
        <p:spPr>
          <a:xfrm rot="10800000">
            <a:off x="5003640" y="1196640"/>
            <a:ext cx="3564000" cy="7192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99"/>
                </a:solidFill>
                <a:latin typeface="Tahoma"/>
              </a:rPr>
              <a:t>أحب أمي الت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0" y="40464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99"/>
                </a:solidFill>
                <a:latin typeface="Tahoma"/>
              </a:rPr>
              <a:t>الاسم الموصو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132000" y="242100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- ما الجملة التي أتمت معنى الاسم الموصول ( التي ) 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971640" y="2421000"/>
            <a:ext cx="215892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99"/>
                </a:solidFill>
                <a:latin typeface="Tahoma"/>
              </a:rPr>
              <a:t>سهرت من اجلي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1979640" y="311616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- ماذا نسمي الجملة التي تأتي بعد الاسم الموصول وتتم معناه 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2556000" y="3789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جملة</a:t>
            </a:r>
            <a:r>
              <a:rPr b="1" lang="ar-SA" sz="2400" spc="-1" strike="noStrike">
                <a:solidFill>
                  <a:srgbClr val="0033cc"/>
                </a:solidFill>
                <a:latin typeface="Tahoma"/>
              </a:rPr>
              <a:t> صلة الموصول</a:t>
            </a: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5796000" y="4869000"/>
            <a:ext cx="1512720" cy="825480"/>
          </a:xfrm>
          <a:prstGeom prst="rect">
            <a:avLst/>
          </a:prstGeom>
          <a:solidFill>
            <a:srgbClr val="ffa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c0c0"/>
                </a:solidFill>
                <a:latin typeface="Tahoma"/>
              </a:rPr>
              <a:t>أحب أمي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4861080" y="4869000"/>
            <a:ext cx="934920" cy="45972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تي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2987640" y="4869000"/>
            <a:ext cx="187164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99"/>
                </a:solidFill>
                <a:latin typeface="Tahoma"/>
              </a:rPr>
              <a:t>سهرت من أجلي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56000" y="277920"/>
            <a:ext cx="6130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3399"/>
                </a:solidFill>
                <a:latin typeface="Tahoma"/>
                <a:cs typeface="Traditional Arabic"/>
              </a:rPr>
              <a:t>وبعد هذا الشرح الوافي ماذا تستنتج ؟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2" name="Cloud"/>
          <p:cNvSpPr/>
          <p:nvPr/>
        </p:nvSpPr>
        <p:spPr>
          <a:xfrm>
            <a:off x="611280" y="1197000"/>
            <a:ext cx="8064360" cy="3909960"/>
          </a:xfrm>
          <a:prstGeom prst="pie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3399"/>
                </a:solidFill>
                <a:latin typeface="Tahoma"/>
                <a:cs typeface="Traditional Arabic"/>
              </a:rPr>
              <a:t>أستنتج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اسم الموصول 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ahoma"/>
                <a:cs typeface="Traditional Arabic"/>
              </a:rPr>
              <a:t>هو اسم لا يتم معناه إلا بجملة تأتي بعده تسمى صلة الموصول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5" descr="al-anssari-d6a4dd62c1"/>
          <p:cNvPicPr/>
          <p:nvPr/>
        </p:nvPicPr>
        <p:blipFill>
          <a:blip r:embed="rId1"/>
          <a:stretch/>
        </p:blipFill>
        <p:spPr>
          <a:xfrm>
            <a:off x="7524720" y="4149720"/>
            <a:ext cx="1333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343640" cy="1266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200" spc="-1" strike="noStrike">
                <a:solidFill>
                  <a:srgbClr val="ff3399"/>
                </a:solidFill>
                <a:latin typeface="Tahoma"/>
                <a:cs typeface="Traditional Arabic"/>
              </a:rPr>
              <a:t>أمثلة توضيحية </a:t>
            </a:r>
            <a:endParaRPr b="0" lang="en-US" sz="6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 algn="r" rtl="1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 التلاميذ </a:t>
            </a:r>
            <a:r>
              <a:rPr b="1" lang="ar-SA" sz="2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ذين</a:t>
            </a:r>
            <a:r>
              <a:rPr b="1" lang="ar-SA" sz="2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ثابروا على الدراسة 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05560" indent="0" algn="r" rtl="1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ت التلميذات </a:t>
            </a:r>
            <a:r>
              <a:rPr b="1" lang="ar-SA" sz="2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لاتي</a:t>
            </a:r>
            <a:r>
              <a:rPr b="1" lang="ar-SA" sz="2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ثابرن على الدراسة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05560" indent="0" algn="r" rtl="1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ت التجارب </a:t>
            </a:r>
            <a:r>
              <a:rPr b="1" lang="ar-SA" sz="2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تي</a:t>
            </a:r>
            <a:r>
              <a:rPr b="1" lang="ar-SA" sz="2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أجريت في المختبر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56000" y="1628640"/>
            <a:ext cx="417672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 algn="r" rtl="1">
              <a:lnSpc>
                <a:spcPct val="2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 التلميذ </a:t>
            </a:r>
            <a:r>
              <a:rPr b="1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ذي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ثابر على الدراس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5480" indent="0" algn="r" rtl="1">
              <a:lnSpc>
                <a:spcPct val="2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ت التلميذة </a:t>
            </a:r>
            <a:r>
              <a:rPr b="1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تي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ثابرت على الدراس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5480" indent="0" algn="r" rtl="1">
              <a:lnSpc>
                <a:spcPct val="2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 التلميذان </a:t>
            </a:r>
            <a:r>
              <a:rPr b="1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لذان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ثابرا على الدراس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5480" indent="0" algn="r" rtl="1">
              <a:lnSpc>
                <a:spcPct val="2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ت التلميذتان </a:t>
            </a:r>
            <a:r>
              <a:rPr b="1" lang="ar-SA" sz="2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لتان </a:t>
            </a: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ثابرتا على الدراسة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6"/>
          <p:cNvSpPr/>
          <p:nvPr/>
        </p:nvSpPr>
        <p:spPr>
          <a:xfrm flipV="1">
            <a:off x="4500720" y="1557360"/>
            <a:ext cx="0" cy="475128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3040" y="404280"/>
            <a:ext cx="6870960" cy="119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أسماء الموصولة هي :</a:t>
            </a:r>
            <a:endParaRPr b="0" lang="en-US" sz="5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ذي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ت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لذا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لتا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ذي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لاتي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4"/>
          <p:cNvSpPr/>
          <p:nvPr/>
        </p:nvSpPr>
        <p:spPr>
          <a:xfrm flipH="1">
            <a:off x="5076720" y="1989000"/>
            <a:ext cx="273528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059280" y="1700280"/>
            <a:ext cx="194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لمفرد المذك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6"/>
          <p:cNvSpPr/>
          <p:nvPr/>
        </p:nvSpPr>
        <p:spPr>
          <a:xfrm flipH="1">
            <a:off x="5076360" y="2637000"/>
            <a:ext cx="280836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 flipH="1">
            <a:off x="5219640" y="3213000"/>
            <a:ext cx="259416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5219640" y="3860640"/>
            <a:ext cx="266544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9"/>
          <p:cNvSpPr/>
          <p:nvPr/>
        </p:nvSpPr>
        <p:spPr>
          <a:xfrm flipH="1">
            <a:off x="5219640" y="4581360"/>
            <a:ext cx="266544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0"/>
          <p:cNvSpPr/>
          <p:nvPr/>
        </p:nvSpPr>
        <p:spPr>
          <a:xfrm flipH="1">
            <a:off x="5219640" y="5229360"/>
            <a:ext cx="259416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2987640" y="4349880"/>
            <a:ext cx="201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جماعة الذكو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3564000" y="3630600"/>
            <a:ext cx="151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لمثنى المؤن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3492360" y="4941720"/>
            <a:ext cx="15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جماعة الإنا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492360" y="2981160"/>
            <a:ext cx="15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لمثنى المذك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763640" y="2349360"/>
            <a:ext cx="324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لمفردة المؤنثة ولجمع غير العاق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00"/>
                            </p:stCondLst>
                            <p:childTnLst>
                              <p:par>
                                <p:cTn id="3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30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"/>
                            </p:stCondLst>
                            <p:childTnLst>
                              <p:par>
                                <p:cTn id="3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300"/>
                            </p:stCondLst>
                            <p:childTnLst>
                              <p:par>
                                <p:cTn id="3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8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400"/>
                            </p:stCondLst>
                            <p:childTnLst>
                              <p:par>
                                <p:cTn id="4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400"/>
                            </p:stCondLst>
                            <p:childTnLst>
                              <p:par>
                                <p:cTn id="4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قاعدة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اسم الموصول هو : اسم لايتم معناه إلا بجملة تأتي بعده ، وتسمى صلة الموصول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أسماء الموصولة هي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ذي  للمفرد المذك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تي  للمفرد المؤنث ولجمع غير العاقل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3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لذان  للمثنى المذك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4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لتان  للمثنى المذك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5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ذين  لجماعة الذكو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6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لاتي  لجماعة الإناث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201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7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تقويم</a:t>
            </a:r>
            <a:endParaRPr b="0" lang="en-US" sz="57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أستخرجُ الاسماء الموصولة فيما يأتي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Tahoma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800000"/>
                </a:solidFill>
                <a:latin typeface="Tahoma"/>
                <a:ea typeface="Traditional Arabic"/>
              </a:rPr>
              <a:t>- اللهم أصلح لي ديني الذي هو عصمت أمري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Tahoma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000099"/>
                </a:solidFill>
                <a:latin typeface="Tahoma"/>
                <a:ea typeface="Traditional Arabic"/>
              </a:rPr>
              <a:t>- كبرت الشجرتان اللتان زرعتهما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6600"/>
                </a:solidFill>
                <a:latin typeface="Tahoma"/>
                <a:ea typeface="Traditional Arabic"/>
              </a:rPr>
              <a:t>3</a:t>
            </a:r>
            <a:r>
              <a:rPr b="0" lang="ar-SA" sz="3200" spc="-1" strike="noStrike">
                <a:solidFill>
                  <a:srgbClr val="cc6600"/>
                </a:solidFill>
                <a:latin typeface="Tahoma"/>
                <a:ea typeface="Traditional Arabic"/>
              </a:rPr>
              <a:t>- فاحت رائحة الأزهار التي بالحديق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Tahoma"/>
                <a:ea typeface="Traditional Arabic"/>
              </a:rPr>
              <a:t>4</a:t>
            </a:r>
            <a:r>
              <a:rPr b="0" lang="ar-SA" sz="3200" spc="-1" strike="noStrike">
                <a:solidFill>
                  <a:srgbClr val="009900"/>
                </a:solidFill>
                <a:latin typeface="Tahoma"/>
                <a:ea typeface="Traditional Arabic"/>
              </a:rPr>
              <a:t>- هؤلاء الفتيات اللاتي شاركن في المسابق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6699"/>
                </a:solidFill>
                <a:latin typeface="Tahoma"/>
                <a:ea typeface="Traditional Arabic"/>
              </a:rPr>
              <a:t>5</a:t>
            </a:r>
            <a:r>
              <a:rPr b="0" lang="ar-SA" sz="3200" spc="-1" strike="noStrike">
                <a:solidFill>
                  <a:srgbClr val="666699"/>
                </a:solidFill>
                <a:latin typeface="Tahoma"/>
                <a:ea typeface="Traditional Arabic"/>
              </a:rPr>
              <a:t>- هؤلاء الطلاب الذين شاركوا في المسابق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تبقى اسم موصول لم نذكره في هذه الأمثلة من يذكره لنا 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320"/>
                            </p:stCondLst>
                            <p:childTnLst>
                              <p:par>
                                <p:cTn id="4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480"/>
                            </p:stCondLst>
                            <p:childTnLst>
                              <p:par>
                                <p:cTn id="4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760"/>
                            </p:stCondLst>
                            <p:childTnLst>
                              <p:par>
                                <p:cTn id="4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240"/>
                            </p:stCondLst>
                            <p:childTnLst>
                              <p:par>
                                <p:cTn id="4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37:23Z</dcterms:created>
  <dc:creator>ריהאם</dc:creator>
  <dc:description/>
  <dc:language>en-US</dc:language>
  <cp:lastModifiedBy>User</cp:lastModifiedBy>
  <dcterms:modified xsi:type="dcterms:W3CDTF">2016-10-31T16:31:26Z</dcterms:modified>
  <cp:revision>39</cp:revision>
  <dc:subject>الإسم الموصول</dc:subject>
  <dc:title>قواعد اللغة العربية-الصف الثالث</dc:title>
</cp:coreProperties>
</file>