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jpeg" ContentType="image/jpeg"/>
  <Override PartName="/ppt/media/image10.jpeg" ContentType="image/jpeg"/>
  <Override PartName="/ppt/media/WHOOSH.WAV" ContentType="audio/x-wav"/>
  <Override PartName="/ppt/media/image14.jpeg" ContentType="image/jpeg"/>
  <Override PartName="/ppt/media/image13.jpeg" ContentType="image/jpeg"/>
  <Override PartName="/ppt/media/image12.wmf" ContentType="image/x-wmf"/>
  <Override PartName="/ppt/media/image1.jpeg" ContentType="image/jpeg"/>
  <Override PartName="/ppt/media/image4.wmf" ContentType="image/x-wmf"/>
  <Override PartName="/ppt/media/CAMERA.WAV" ContentType="audio/x-wav"/>
  <Override PartName="/ppt/media/LASER.WAV" ContentType="audio/x-wav"/>
  <Override PartName="/ppt/media/image2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DRIVEB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340-D823-44C4-8B56-B39D289C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080-CBAC-43A8-92F5-D8C2A72E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140-33E5-4DD1-AF22-4457AF67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AEF-21C2-4897-A7FB-F59870F4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73C0-2DAB-4B42-876B-73F03998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C213-5F6E-427A-A02E-12FDD944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5C82-AE5B-4032-AF45-6906B4CF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E06D-556F-4F66-AB6D-B73E608F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E4D8-E02C-4F23-93FD-08BEC36C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412D-6A41-49DC-8199-9EE3D065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CB59-FCC1-48ED-A686-D66FA1AF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8A7-DAAC-4FA0-AE85-2137527F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060C-CC33-465F-8C67-1A234175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AAFB-8720-4C0C-90BD-4EB0B510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225B-A88F-4645-A2C3-32BF0EC6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FC0E-7D7D-4D05-9D8A-7CC4565F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F6FA-3113-49FD-AA97-3AC6D94D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D25-68F3-427D-B8A6-C8519B00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C3B-A686-46AA-BA74-B56B3471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C80-D4BE-49E4-BEE4-B8C0F052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7AD-65BD-4A02-8FE4-9BEEFD69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644-616B-4EB2-A2A7-AB26A678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449-09A7-420E-808D-E8CB47E8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AB7-A42D-45D1-90E7-8D39D020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AD6C-414E-4045-ABAF-7437D8C6B240}" type="slidenum">
              <a:rPr b="0" lang="ar-SA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6330-82E7-4464-A568-0B0EC84D1882}" type="slidenum">
              <a:rPr b="0" lang="ar-SA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DRIVEBY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imes New Roman"/>
                <a:cs typeface="Al-Kharashi Saleh Moshmat Kaim"/>
              </a:rPr>
              <a:t>أسماء الإشارة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1395360" cy="1524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Times New Roman"/>
                <a:cs typeface="Akhbar MT"/>
              </a:rPr>
              <a:t>ذَلِك</a:t>
            </a:r>
            <a:r>
              <a:rPr b="0" lang="ar-SA" sz="4400" spc="-1" strike="noStrike">
                <a:solidFill>
                  <a:srgbClr val="5b5249"/>
                </a:solidFill>
                <a:latin typeface="Times New Roman"/>
                <a:cs typeface="Akhbar MT"/>
              </a:rPr>
              <a:t>َ لاَعِبُ كُرة القدم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ذلك لـ 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ff0066"/>
                </a:solidFill>
                <a:latin typeface="Times New Roman"/>
                <a:cs typeface="Akhbar MT"/>
              </a:rPr>
              <a:t>تلك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Akhbar MT"/>
              </a:rPr>
              <a:t> سَمَكَ</a:t>
            </a:r>
            <a:r>
              <a:rPr b="0" lang="ar-JO" sz="4800" spc="-1" strike="noStrike">
                <a:solidFill>
                  <a:srgbClr val="5b5249"/>
                </a:solidFill>
                <a:latin typeface="Times New Roman"/>
                <a:cs typeface="Akhbar MT"/>
              </a:rPr>
              <a:t>ة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تلك لـ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Object 5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1981080" cy="7495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7"/>
          <p:cNvSpPr/>
          <p:nvPr/>
        </p:nvSpPr>
        <p:spPr>
          <a:xfrm>
            <a:off x="4267080" y="2209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5334120" y="46483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8" descr="......................jpg"/>
          <p:cNvPicPr/>
          <p:nvPr/>
        </p:nvPicPr>
        <p:blipFill>
          <a:blip r:embed="rId1"/>
          <a:stretch/>
        </p:blipFill>
        <p:spPr>
          <a:xfrm>
            <a:off x="685800" y="1447920"/>
            <a:ext cx="228600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809520" y="685800"/>
            <a:ext cx="48769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أولئك رجال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    مهذبون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   نستخدم اؤلئك لـ.....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808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b5249"/>
                </a:solidFill>
                <a:latin typeface="Times New Roman"/>
              </a:rPr>
              <a:t>سفر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334120" y="25909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ontent Placeholder 7" descr="is (3).jpg"/>
          <p:cNvPicPr/>
          <p:nvPr/>
        </p:nvPicPr>
        <p:blipFill>
          <a:blip r:embed="rId1"/>
          <a:stretch/>
        </p:blipFill>
        <p:spPr>
          <a:xfrm>
            <a:off x="609480" y="1828800"/>
            <a:ext cx="3048120" cy="311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5b5249"/>
                </a:solidFill>
                <a:latin typeface="Times New Roman"/>
              </a:rPr>
              <a:t>أؤلئك وردات جميلات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نستخدم أولئك لـ....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5410080" y="3200400"/>
            <a:ext cx="1067040" cy="380880"/>
          </a:xfrm>
          <a:prstGeom prst="leftArrow">
            <a:avLst>
              <a:gd name="adj1" fmla="val 50000"/>
              <a:gd name="adj2" fmla="val 10505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2a3d7a"/>
                </a:solidFill>
                <a:latin typeface="Times New Roman"/>
              </a:rPr>
              <a:t>أسماء الإشارة</a:t>
            </a: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 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هي أسماء نشير بها إلى شخص أو شئ معين، شرط أن يكون المشار إليه حاضر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وهي نوعان : 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أولًا : أسماء الاشارة للقريب</a:t>
            </a:r>
            <a:br>
              <a:rPr sz="44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( هذا -  هذه  -  هذان  -  هاتان  -  هؤلاء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4864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هِ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سَيَّارَتِي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نستخدم هذه لـ</a:t>
            </a: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00000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1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 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مِفتَاحِي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نستخدم هذا لـ..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Object 1044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438280" cy="838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1045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1066680" cy="14479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47"/>
          <p:cNvSpPr/>
          <p:nvPr/>
        </p:nvSpPr>
        <p:spPr>
          <a:xfrm>
            <a:off x="3581280" y="2209680"/>
            <a:ext cx="2057400" cy="381240"/>
          </a:xfrm>
          <a:prstGeom prst="leftArrow">
            <a:avLst>
              <a:gd name="adj1" fmla="val 50000"/>
              <a:gd name="adj2" fmla="val 13491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AutoShape 1048"/>
          <p:cNvSpPr/>
          <p:nvPr/>
        </p:nvSpPr>
        <p:spPr>
          <a:xfrm>
            <a:off x="3581280" y="4876920"/>
            <a:ext cx="2057400" cy="380880"/>
          </a:xfrm>
          <a:prstGeom prst="leftArrow">
            <a:avLst>
              <a:gd name="adj1" fmla="val 50000"/>
              <a:gd name="adj2" fmla="val 13504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800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نِ</a:t>
            </a:r>
            <a:r>
              <a:rPr b="0" lang="ar-SA" sz="60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كَأسَانِ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ذان لـ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Object 0" descr=""/>
          <p:cNvPicPr/>
          <p:nvPr/>
        </p:nvPicPr>
        <p:blipFill>
          <a:blip r:embed="rId1"/>
          <a:stretch/>
        </p:blipFill>
        <p:spPr>
          <a:xfrm>
            <a:off x="1143000" y="2101680"/>
            <a:ext cx="164448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1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3276720" y="2819520"/>
            <a:ext cx="2133360" cy="838080"/>
          </a:xfrm>
          <a:prstGeom prst="leftArrow">
            <a:avLst>
              <a:gd name="adj1" fmla="val 50000"/>
              <a:gd name="adj2" fmla="val 6363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ff0000"/>
                </a:solidFill>
                <a:latin typeface="Times New Roman"/>
              </a:rPr>
              <a:t>هاتان</a:t>
            </a: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 ورقتان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ar-JO" sz="4000" spc="-1" strike="noStrike">
                <a:solidFill>
                  <a:srgbClr val="5b5249"/>
                </a:solidFill>
                <a:latin typeface="Times New Roman"/>
              </a:rPr>
              <a:t>نستخدم هاتان لـ....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11" descr="ورقة.jpg"/>
          <p:cNvPicPr/>
          <p:nvPr/>
        </p:nvPicPr>
        <p:blipFill>
          <a:blip r:embed="rId1"/>
          <a:stretch/>
        </p:blipFill>
        <p:spPr>
          <a:xfrm>
            <a:off x="1066680" y="129528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2.jpg"/>
          <p:cNvPicPr/>
          <p:nvPr/>
        </p:nvPicPr>
        <p:blipFill>
          <a:blip r:embed="rId2"/>
          <a:stretch/>
        </p:blipFill>
        <p:spPr>
          <a:xfrm>
            <a:off x="1066680" y="3429000"/>
            <a:ext cx="209556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4343400" y="2590920"/>
            <a:ext cx="990720" cy="304560"/>
          </a:xfrm>
          <a:prstGeom prst="leftArrow">
            <a:avLst>
              <a:gd name="adj1" fmla="val 50000"/>
              <a:gd name="adj2" fmla="val 10508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ؤُلاء</a:t>
            </a:r>
            <a:r>
              <a:rPr b="0" lang="ar-SA" sz="66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ِ فِي اجتِمَاعٍ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ؤلاء لـ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505320" y="31240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Picture 9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685800" y="1981080"/>
            <a:ext cx="28195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lipArt Placeholder 4" descr="is.jpg"/>
          <p:cNvPicPr/>
          <p:nvPr/>
        </p:nvPicPr>
        <p:blipFill>
          <a:blip r:embed="rId1"/>
          <a:stretch/>
        </p:blipFill>
        <p:spPr>
          <a:xfrm>
            <a:off x="762120" y="2209680"/>
            <a:ext cx="400680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80920" y="21016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هؤلاء تفاحات جميلات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نستخدم هولاء لـ.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257800" y="3352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ثانيًا :أسماء الاشارة للبعيد </a:t>
            </a: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( ذلك  -  تلك  -  هؤلاء</a:t>
            </a: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0T20:31:50Z</dcterms:created>
  <dc:creator>s</dc:creator>
  <dc:description/>
  <dc:language>en-US</dc:language>
  <cp:lastModifiedBy>ashab</cp:lastModifiedBy>
  <cp:lastPrinted>2001-02-15T02:40:08Z</cp:lastPrinted>
  <dcterms:modified xsi:type="dcterms:W3CDTF">2017-10-21T13:23:47Z</dcterms:modified>
  <cp:revision>38</cp:revision>
  <dc:subject/>
  <dc:title>كتابة أسماء الإشارة</dc:title>
</cp:coreProperties>
</file>